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204-9E12-402D-86E8-A8AC59F9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164-EBD9-483D-8542-25BE147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8B6-AD31-4840-89E4-6E62BA68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EDF-D9EF-448C-BC11-20B1BAB4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EC8-2BD6-4F00-AA13-F5F2AECC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3CF3-79FC-4163-8AAA-D5CA565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85C-77C0-4C4D-8619-891F8EC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CBC-5AAA-4AF8-A70E-79CC8C9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FC97-AE8C-4D85-854E-B1EB31F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C609-AF99-430F-A79D-C1D5E29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27AC-521F-414D-9A07-B210855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C8D-EFA9-4365-9B63-AB96634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D01-737E-4C92-9497-89926A8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2CDA-8B7F-4444-A154-8F9F6DE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DF29-D466-47BA-86C6-106C9956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C10-3441-4CBB-8E85-9D561D0C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0A1-2DDC-49B5-91BA-B8EB49D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A17-0E9B-4133-A9F1-11409897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9D2-604C-4A8C-9D46-CA08A29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969-8850-4EE5-B3F7-27A1617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516-6919-4CA0-BC63-F221A491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DDF-77FE-4F6D-8101-B1C5797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8E9-B8FF-4587-B5D6-648D522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E99-03FB-4C9F-8FF0-27FDA04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6DA-67AA-45DC-B454-016135CB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5CB-26C6-4173-BB1E-289AC1640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alisto MT"/>
              </a:rPr>
              <a:t>Obj 10.1:  To classify angles by their measur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38760" y="1963800"/>
            <a:ext cx="2357280" cy="81000"/>
          </a:xfrm>
          <a:custGeom>
            <a:avLst/>
            <a:gdLst/>
            <a:ahLst/>
            <a:rect l="l" t="t" r="r" b="b"/>
            <a:pathLst>
              <a:path w="6549" h="224">
                <a:moveTo>
                  <a:pt x="10939" y="5655"/>
                </a:moveTo>
                <a:cubicBezTo>
                  <a:pt x="11048" y="5669"/>
                  <a:pt x="11146" y="5670"/>
                  <a:pt x="11261" y="5655"/>
                </a:cubicBezTo>
                <a:cubicBezTo>
                  <a:pt x="11444" y="5631"/>
                  <a:pt x="11621" y="5631"/>
                  <a:pt x="11807" y="5631"/>
                </a:cubicBezTo>
                <a:cubicBezTo>
                  <a:pt x="12025" y="5631"/>
                  <a:pt x="12237" y="5643"/>
                  <a:pt x="12452" y="5655"/>
                </a:cubicBezTo>
                <a:cubicBezTo>
                  <a:pt x="12595" y="5663"/>
                  <a:pt x="12730" y="5678"/>
                  <a:pt x="12874" y="5680"/>
                </a:cubicBezTo>
                <a:cubicBezTo>
                  <a:pt x="13017" y="5682"/>
                  <a:pt x="13158" y="5662"/>
                  <a:pt x="13295" y="5655"/>
                </a:cubicBezTo>
                <a:cubicBezTo>
                  <a:pt x="13511" y="5644"/>
                  <a:pt x="13725" y="5654"/>
                  <a:pt x="13940" y="5631"/>
                </a:cubicBezTo>
                <a:cubicBezTo>
                  <a:pt x="14138" y="5610"/>
                  <a:pt x="14340" y="5589"/>
                  <a:pt x="14536" y="5556"/>
                </a:cubicBezTo>
                <a:cubicBezTo>
                  <a:pt x="14737" y="5522"/>
                  <a:pt x="14952" y="5511"/>
                  <a:pt x="15156" y="5507"/>
                </a:cubicBezTo>
                <a:cubicBezTo>
                  <a:pt x="15349" y="5504"/>
                  <a:pt x="15534" y="5486"/>
                  <a:pt x="15726" y="5482"/>
                </a:cubicBezTo>
                <a:cubicBezTo>
                  <a:pt x="15885" y="5479"/>
                  <a:pt x="16037" y="5459"/>
                  <a:pt x="16197" y="5457"/>
                </a:cubicBezTo>
                <a:cubicBezTo>
                  <a:pt x="16333" y="5455"/>
                  <a:pt x="16462" y="5475"/>
                  <a:pt x="16594" y="5482"/>
                </a:cubicBezTo>
                <a:cubicBezTo>
                  <a:pt x="16739" y="5489"/>
                  <a:pt x="16877" y="5465"/>
                  <a:pt x="17016" y="5457"/>
                </a:cubicBezTo>
                <a:cubicBezTo>
                  <a:pt x="17172" y="5448"/>
                  <a:pt x="17331" y="5457"/>
                  <a:pt x="17487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is Next Section Includes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94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Classifying Ang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25360" y="6340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25" y="17611"/>
                </a:moveTo>
                <a:lnTo>
                  <a:pt x="3125" y="176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More classify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4911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302" y="13643"/>
                </a:moveTo>
                <a:lnTo>
                  <a:pt x="9302" y="136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9640" y="4670280"/>
            <a:ext cx="117360" cy="1036800"/>
          </a:xfrm>
          <a:custGeom>
            <a:avLst/>
            <a:gdLst/>
            <a:ahLst/>
            <a:rect l="l" t="t" r="r" b="b"/>
            <a:pathLst>
              <a:path w="323" h="2878">
                <a:moveTo>
                  <a:pt x="12998" y="15850"/>
                </a:moveTo>
                <a:cubicBezTo>
                  <a:pt x="12998" y="15730"/>
                  <a:pt x="13005" y="15610"/>
                  <a:pt x="13022" y="15503"/>
                </a:cubicBezTo>
                <a:cubicBezTo>
                  <a:pt x="13034" y="15429"/>
                  <a:pt x="13008" y="15364"/>
                  <a:pt x="12998" y="15304"/>
                </a:cubicBezTo>
                <a:cubicBezTo>
                  <a:pt x="12989" y="15250"/>
                  <a:pt x="12977" y="15150"/>
                  <a:pt x="12973" y="15131"/>
                </a:cubicBezTo>
                <a:cubicBezTo>
                  <a:pt x="12960" y="15068"/>
                  <a:pt x="12957" y="14985"/>
                  <a:pt x="12948" y="14932"/>
                </a:cubicBezTo>
                <a:cubicBezTo>
                  <a:pt x="12906" y="14683"/>
                  <a:pt x="12963" y="14402"/>
                  <a:pt x="12923" y="14163"/>
                </a:cubicBezTo>
                <a:cubicBezTo>
                  <a:pt x="12881" y="13915"/>
                  <a:pt x="12938" y="13633"/>
                  <a:pt x="12898" y="13395"/>
                </a:cubicBezTo>
                <a:cubicBezTo>
                  <a:pt x="12885" y="13315"/>
                  <a:pt x="12914" y="13243"/>
                  <a:pt x="12923" y="13171"/>
                </a:cubicBezTo>
                <a:cubicBezTo>
                  <a:pt x="12930" y="13118"/>
                  <a:pt x="12940" y="13072"/>
                  <a:pt x="12948" y="13022"/>
                </a:cubicBezTo>
                <a:cubicBezTo>
                  <a:pt x="12948" y="12998"/>
                  <a:pt x="12948" y="12989"/>
                  <a:pt x="12948" y="12973"/>
                </a:cubicBezTo>
                <a:cubicBezTo>
                  <a:pt x="12917" y="13004"/>
                  <a:pt x="12859" y="13062"/>
                  <a:pt x="12824" y="13122"/>
                </a:cubicBezTo>
                <a:cubicBezTo>
                  <a:pt x="12803" y="13157"/>
                  <a:pt x="12770" y="13183"/>
                  <a:pt x="12750" y="13221"/>
                </a:cubicBezTo>
                <a:cubicBezTo>
                  <a:pt x="12750" y="13229"/>
                  <a:pt x="12750" y="13238"/>
                  <a:pt x="12750" y="13246"/>
                </a:cubicBezTo>
                <a:cubicBezTo>
                  <a:pt x="12790" y="13182"/>
                  <a:pt x="12828" y="13109"/>
                  <a:pt x="12874" y="13047"/>
                </a:cubicBezTo>
                <a:cubicBezTo>
                  <a:pt x="12893" y="13022"/>
                  <a:pt x="12924" y="12998"/>
                  <a:pt x="12973" y="13047"/>
                </a:cubicBezTo>
                <a:cubicBezTo>
                  <a:pt x="13003" y="13077"/>
                  <a:pt x="13026" y="13142"/>
                  <a:pt x="13047" y="13171"/>
                </a:cubicBezTo>
                <a:cubicBezTo>
                  <a:pt x="13072" y="13171"/>
                  <a:pt x="13080" y="13171"/>
                  <a:pt x="13072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4880" y="3357720"/>
            <a:ext cx="804960" cy="785520"/>
          </a:xfrm>
          <a:custGeom>
            <a:avLst/>
            <a:gdLst/>
            <a:ahLst/>
            <a:rect l="l" t="t" r="r" b="b"/>
            <a:pathLst>
              <a:path w="2234" h="2183">
                <a:moveTo>
                  <a:pt x="8657" y="11038"/>
                </a:moveTo>
                <a:cubicBezTo>
                  <a:pt x="8639" y="11146"/>
                  <a:pt x="8637" y="11160"/>
                  <a:pt x="8731" y="11261"/>
                </a:cubicBezTo>
                <a:cubicBezTo>
                  <a:pt x="8854" y="11394"/>
                  <a:pt x="9049" y="11480"/>
                  <a:pt x="9227" y="11509"/>
                </a:cubicBezTo>
                <a:cubicBezTo>
                  <a:pt x="9386" y="11535"/>
                  <a:pt x="9545" y="11491"/>
                  <a:pt x="9699" y="11460"/>
                </a:cubicBezTo>
                <a:cubicBezTo>
                  <a:pt x="9861" y="11427"/>
                  <a:pt x="10050" y="11369"/>
                  <a:pt x="10195" y="11286"/>
                </a:cubicBezTo>
                <a:cubicBezTo>
                  <a:pt x="10334" y="11206"/>
                  <a:pt x="10419" y="11051"/>
                  <a:pt x="10492" y="10914"/>
                </a:cubicBezTo>
                <a:cubicBezTo>
                  <a:pt x="10551" y="10802"/>
                  <a:pt x="10648" y="10694"/>
                  <a:pt x="10666" y="10567"/>
                </a:cubicBezTo>
                <a:cubicBezTo>
                  <a:pt x="10686" y="10427"/>
                  <a:pt x="10691" y="10285"/>
                  <a:pt x="10666" y="10145"/>
                </a:cubicBezTo>
                <a:cubicBezTo>
                  <a:pt x="10649" y="10050"/>
                  <a:pt x="10615" y="9956"/>
                  <a:pt x="10567" y="9872"/>
                </a:cubicBezTo>
                <a:cubicBezTo>
                  <a:pt x="10464" y="9692"/>
                  <a:pt x="10346" y="9583"/>
                  <a:pt x="10170" y="9475"/>
                </a:cubicBezTo>
                <a:cubicBezTo>
                  <a:pt x="10023" y="9385"/>
                  <a:pt x="9847" y="9344"/>
                  <a:pt x="9674" y="9327"/>
                </a:cubicBezTo>
                <a:cubicBezTo>
                  <a:pt x="9543" y="9314"/>
                  <a:pt x="9404" y="9323"/>
                  <a:pt x="9277" y="9351"/>
                </a:cubicBezTo>
                <a:cubicBezTo>
                  <a:pt x="9108" y="9388"/>
                  <a:pt x="8942" y="9470"/>
                  <a:pt x="8806" y="9575"/>
                </a:cubicBezTo>
                <a:cubicBezTo>
                  <a:pt x="8700" y="9657"/>
                  <a:pt x="8654" y="9735"/>
                  <a:pt x="8582" y="9847"/>
                </a:cubicBezTo>
                <a:cubicBezTo>
                  <a:pt x="8512" y="9957"/>
                  <a:pt x="8504" y="10023"/>
                  <a:pt x="8483" y="10145"/>
                </a:cubicBezTo>
                <a:cubicBezTo>
                  <a:pt x="8469" y="10229"/>
                  <a:pt x="8458" y="10303"/>
                  <a:pt x="8458" y="10393"/>
                </a:cubicBezTo>
                <a:cubicBezTo>
                  <a:pt x="8458" y="10473"/>
                  <a:pt x="8466" y="10563"/>
                  <a:pt x="8483" y="10641"/>
                </a:cubicBezTo>
                <a:cubicBezTo>
                  <a:pt x="8501" y="10721"/>
                  <a:pt x="8529" y="10770"/>
                  <a:pt x="8558" y="10840"/>
                </a:cubicBezTo>
                <a:cubicBezTo>
                  <a:pt x="8574" y="10879"/>
                  <a:pt x="8589" y="10928"/>
                  <a:pt x="8607" y="10964"/>
                </a:cubicBezTo>
                <a:cubicBezTo>
                  <a:pt x="8632" y="11014"/>
                  <a:pt x="8656" y="11081"/>
                  <a:pt x="8682" y="11137"/>
                </a:cubicBezTo>
                <a:cubicBezTo>
                  <a:pt x="8715" y="11208"/>
                  <a:pt x="8733" y="11223"/>
                  <a:pt x="8706" y="11261"/>
                </a:cubicBezTo>
                <a:cubicBezTo>
                  <a:pt x="8698" y="11245"/>
                  <a:pt x="8690" y="11228"/>
                  <a:pt x="8682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2240" y="5116680"/>
            <a:ext cx="1312920" cy="598320"/>
          </a:xfrm>
          <a:custGeom>
            <a:avLst/>
            <a:gdLst/>
            <a:ahLst/>
            <a:rect l="l" t="t" r="r" b="b"/>
            <a:pathLst>
              <a:path w="3647" h="1663">
                <a:moveTo>
                  <a:pt x="13022" y="15404"/>
                </a:moveTo>
                <a:cubicBezTo>
                  <a:pt x="13077" y="15390"/>
                  <a:pt x="13132" y="15363"/>
                  <a:pt x="13196" y="15354"/>
                </a:cubicBezTo>
                <a:cubicBezTo>
                  <a:pt x="13260" y="15345"/>
                  <a:pt x="13310" y="15334"/>
                  <a:pt x="13370" y="15329"/>
                </a:cubicBezTo>
                <a:cubicBezTo>
                  <a:pt x="13402" y="15326"/>
                  <a:pt x="13436" y="15329"/>
                  <a:pt x="13469" y="15329"/>
                </a:cubicBezTo>
                <a:cubicBezTo>
                  <a:pt x="13469" y="15420"/>
                  <a:pt x="13456" y="15490"/>
                  <a:pt x="13444" y="15577"/>
                </a:cubicBezTo>
                <a:cubicBezTo>
                  <a:pt x="13434" y="15650"/>
                  <a:pt x="13457" y="15717"/>
                  <a:pt x="13469" y="15776"/>
                </a:cubicBezTo>
                <a:cubicBezTo>
                  <a:pt x="13475" y="15804"/>
                  <a:pt x="13469" y="15845"/>
                  <a:pt x="13469" y="15875"/>
                </a:cubicBezTo>
              </a:path>
              <a:path w="3647" h="1663">
                <a:moveTo>
                  <a:pt x="14089" y="14908"/>
                </a:moveTo>
                <a:cubicBezTo>
                  <a:pt x="14089" y="14802"/>
                  <a:pt x="14092" y="14676"/>
                  <a:pt x="13965" y="14635"/>
                </a:cubicBezTo>
                <a:cubicBezTo>
                  <a:pt x="13751" y="14566"/>
                  <a:pt x="13717" y="14831"/>
                  <a:pt x="13717" y="14957"/>
                </a:cubicBezTo>
                <a:cubicBezTo>
                  <a:pt x="13855" y="15020"/>
                  <a:pt x="13929" y="14977"/>
                  <a:pt x="14015" y="14833"/>
                </a:cubicBezTo>
                <a:cubicBezTo>
                  <a:pt x="14015" y="14825"/>
                  <a:pt x="14015" y="14816"/>
                  <a:pt x="14015" y="14808"/>
                </a:cubicBezTo>
                <a:cubicBezTo>
                  <a:pt x="14032" y="14980"/>
                  <a:pt x="14021" y="15132"/>
                  <a:pt x="14015" y="15304"/>
                </a:cubicBezTo>
                <a:cubicBezTo>
                  <a:pt x="14015" y="15312"/>
                  <a:pt x="14015" y="15321"/>
                  <a:pt x="14015" y="15329"/>
                </a:cubicBezTo>
              </a:path>
              <a:path w="3647" h="1663">
                <a:moveTo>
                  <a:pt x="14412" y="14684"/>
                </a:moveTo>
                <a:cubicBezTo>
                  <a:pt x="14412" y="14580"/>
                  <a:pt x="14315" y="14808"/>
                  <a:pt x="14288" y="14908"/>
                </a:cubicBezTo>
                <a:cubicBezTo>
                  <a:pt x="14264" y="15047"/>
                  <a:pt x="14256" y="15088"/>
                  <a:pt x="14263" y="15180"/>
                </a:cubicBezTo>
                <a:cubicBezTo>
                  <a:pt x="14425" y="15168"/>
                  <a:pt x="14557" y="15110"/>
                  <a:pt x="14610" y="14932"/>
                </a:cubicBezTo>
                <a:cubicBezTo>
                  <a:pt x="14650" y="14796"/>
                  <a:pt x="14557" y="14661"/>
                  <a:pt x="14436" y="14635"/>
                </a:cubicBezTo>
                <a:cubicBezTo>
                  <a:pt x="14428" y="14635"/>
                  <a:pt x="14420" y="14635"/>
                  <a:pt x="14412" y="14635"/>
                </a:cubicBezTo>
              </a:path>
              <a:path w="3647" h="1663">
                <a:moveTo>
                  <a:pt x="14808" y="14288"/>
                </a:moveTo>
                <a:cubicBezTo>
                  <a:pt x="14736" y="14300"/>
                  <a:pt x="14748" y="14326"/>
                  <a:pt x="14734" y="14412"/>
                </a:cubicBezTo>
                <a:cubicBezTo>
                  <a:pt x="14859" y="14391"/>
                  <a:pt x="14904" y="14367"/>
                  <a:pt x="14932" y="14238"/>
                </a:cubicBezTo>
                <a:cubicBezTo>
                  <a:pt x="14859" y="14213"/>
                  <a:pt x="14836" y="14205"/>
                  <a:pt x="14784" y="14213"/>
                </a:cubicBezTo>
              </a:path>
              <a:path w="3647" h="1663">
                <a:moveTo>
                  <a:pt x="13047" y="15379"/>
                </a:moveTo>
                <a:cubicBezTo>
                  <a:pt x="12998" y="15330"/>
                  <a:pt x="12933" y="15374"/>
                  <a:pt x="12849" y="15379"/>
                </a:cubicBezTo>
                <a:cubicBezTo>
                  <a:pt x="12762" y="15384"/>
                  <a:pt x="12675" y="15379"/>
                  <a:pt x="12626" y="15404"/>
                </a:cubicBezTo>
                <a:cubicBezTo>
                  <a:pt x="12611" y="15411"/>
                  <a:pt x="12568" y="15404"/>
                  <a:pt x="12551" y="15404"/>
                </a:cubicBezTo>
                <a:cubicBezTo>
                  <a:pt x="12551" y="15541"/>
                  <a:pt x="12560" y="15667"/>
                  <a:pt x="12576" y="15801"/>
                </a:cubicBezTo>
                <a:cubicBezTo>
                  <a:pt x="12576" y="15845"/>
                  <a:pt x="12573" y="15859"/>
                  <a:pt x="12601" y="15875"/>
                </a:cubicBezTo>
              </a:path>
              <a:path w="3647" h="1663">
                <a:moveTo>
                  <a:pt x="11633" y="15032"/>
                </a:moveTo>
                <a:cubicBezTo>
                  <a:pt x="11605" y="14996"/>
                  <a:pt x="11558" y="14896"/>
                  <a:pt x="11509" y="14883"/>
                </a:cubicBezTo>
                <a:cubicBezTo>
                  <a:pt x="11359" y="14845"/>
                  <a:pt x="11274" y="14902"/>
                  <a:pt x="11286" y="15056"/>
                </a:cubicBezTo>
                <a:cubicBezTo>
                  <a:pt x="11309" y="15168"/>
                  <a:pt x="11307" y="15202"/>
                  <a:pt x="11385" y="15230"/>
                </a:cubicBezTo>
                <a:cubicBezTo>
                  <a:pt x="11518" y="15182"/>
                  <a:pt x="11526" y="15085"/>
                  <a:pt x="11559" y="14932"/>
                </a:cubicBezTo>
                <a:cubicBezTo>
                  <a:pt x="11559" y="14924"/>
                  <a:pt x="11559" y="14916"/>
                  <a:pt x="11559" y="14908"/>
                </a:cubicBezTo>
                <a:cubicBezTo>
                  <a:pt x="11559" y="15085"/>
                  <a:pt x="11564" y="15252"/>
                  <a:pt x="11584" y="15429"/>
                </a:cubicBezTo>
                <a:cubicBezTo>
                  <a:pt x="11612" y="15680"/>
                  <a:pt x="11586" y="15659"/>
                  <a:pt x="11683" y="15453"/>
                </a:cubicBezTo>
              </a:path>
              <a:path w="3647" h="1663">
                <a:moveTo>
                  <a:pt x="11857" y="14833"/>
                </a:moveTo>
                <a:cubicBezTo>
                  <a:pt x="11726" y="14859"/>
                  <a:pt x="11731" y="15095"/>
                  <a:pt x="11733" y="15205"/>
                </a:cubicBezTo>
                <a:cubicBezTo>
                  <a:pt x="11756" y="15322"/>
                  <a:pt x="11759" y="15359"/>
                  <a:pt x="11832" y="15404"/>
                </a:cubicBezTo>
                <a:cubicBezTo>
                  <a:pt x="11991" y="15377"/>
                  <a:pt x="12064" y="15308"/>
                  <a:pt x="12055" y="15131"/>
                </a:cubicBezTo>
                <a:cubicBezTo>
                  <a:pt x="12048" y="15008"/>
                  <a:pt x="11964" y="14919"/>
                  <a:pt x="11857" y="14883"/>
                </a:cubicBezTo>
              </a:path>
              <a:path w="3647" h="1663">
                <a:moveTo>
                  <a:pt x="12278" y="14486"/>
                </a:moveTo>
                <a:cubicBezTo>
                  <a:pt x="12184" y="14505"/>
                  <a:pt x="12156" y="14570"/>
                  <a:pt x="12129" y="14660"/>
                </a:cubicBezTo>
                <a:cubicBezTo>
                  <a:pt x="12129" y="14668"/>
                  <a:pt x="12129" y="14676"/>
                  <a:pt x="12129" y="14684"/>
                </a:cubicBezTo>
                <a:cubicBezTo>
                  <a:pt x="12169" y="14679"/>
                  <a:pt x="12314" y="14637"/>
                  <a:pt x="12278" y="14560"/>
                </a:cubicBezTo>
                <a:cubicBezTo>
                  <a:pt x="12238" y="14540"/>
                  <a:pt x="12231" y="14532"/>
                  <a:pt x="12204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73720" y="5840280"/>
            <a:ext cx="598320" cy="40176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2427" y="16644"/>
                </a:moveTo>
                <a:cubicBezTo>
                  <a:pt x="12427" y="16820"/>
                  <a:pt x="12444" y="16989"/>
                  <a:pt x="12452" y="17165"/>
                </a:cubicBezTo>
                <a:cubicBezTo>
                  <a:pt x="12452" y="17272"/>
                  <a:pt x="12452" y="17280"/>
                  <a:pt x="12452" y="17338"/>
                </a:cubicBezTo>
              </a:path>
              <a:path w="1663" h="1117">
                <a:moveTo>
                  <a:pt x="13146" y="16495"/>
                </a:moveTo>
                <a:cubicBezTo>
                  <a:pt x="13001" y="16568"/>
                  <a:pt x="12931" y="16621"/>
                  <a:pt x="12824" y="16743"/>
                </a:cubicBezTo>
                <a:cubicBezTo>
                  <a:pt x="12881" y="16915"/>
                  <a:pt x="13069" y="16930"/>
                  <a:pt x="13171" y="17090"/>
                </a:cubicBezTo>
                <a:cubicBezTo>
                  <a:pt x="13269" y="17244"/>
                  <a:pt x="13111" y="17246"/>
                  <a:pt x="13022" y="17264"/>
                </a:cubicBezTo>
                <a:cubicBezTo>
                  <a:pt x="12930" y="17078"/>
                  <a:pt x="13012" y="16897"/>
                  <a:pt x="13072" y="16694"/>
                </a:cubicBezTo>
                <a:cubicBezTo>
                  <a:pt x="13091" y="16636"/>
                  <a:pt x="13100" y="16629"/>
                  <a:pt x="13097" y="16594"/>
                </a:cubicBezTo>
              </a:path>
              <a:path w="1663" h="1117">
                <a:moveTo>
                  <a:pt x="13543" y="16570"/>
                </a:moveTo>
                <a:cubicBezTo>
                  <a:pt x="13435" y="16719"/>
                  <a:pt x="13373" y="16876"/>
                  <a:pt x="13419" y="17066"/>
                </a:cubicBezTo>
                <a:cubicBezTo>
                  <a:pt x="13436" y="17099"/>
                  <a:pt x="13452" y="17132"/>
                  <a:pt x="13469" y="17165"/>
                </a:cubicBezTo>
                <a:cubicBezTo>
                  <a:pt x="13673" y="17134"/>
                  <a:pt x="13877" y="17042"/>
                  <a:pt x="13791" y="16768"/>
                </a:cubicBezTo>
                <a:cubicBezTo>
                  <a:pt x="13735" y="16590"/>
                  <a:pt x="13536" y="16614"/>
                  <a:pt x="13419" y="16545"/>
                </a:cubicBezTo>
              </a:path>
              <a:path w="1663" h="1117">
                <a:moveTo>
                  <a:pt x="14064" y="16247"/>
                </a:moveTo>
                <a:cubicBezTo>
                  <a:pt x="14033" y="16236"/>
                  <a:pt x="13919" y="16298"/>
                  <a:pt x="13940" y="16396"/>
                </a:cubicBezTo>
                <a:cubicBezTo>
                  <a:pt x="13970" y="16538"/>
                  <a:pt x="14083" y="16328"/>
                  <a:pt x="14089" y="16297"/>
                </a:cubicBezTo>
                <a:cubicBezTo>
                  <a:pt x="14034" y="16269"/>
                  <a:pt x="14011" y="16261"/>
                  <a:pt x="13965" y="162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Showcard Gothic"/>
              </a:rPr>
              <a:t>Naming Angles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4680" y="2041560"/>
            <a:ext cx="719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les can be named with three letters and sometimes just one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62320" y="3124080"/>
            <a:ext cx="4362480" cy="2882880"/>
            <a:chOff x="2362320" y="3124080"/>
            <a:chExt cx="4362480" cy="2882880"/>
          </a:xfrm>
        </p:grpSpPr>
        <p:grpSp>
          <p:nvGrpSpPr>
            <p:cNvPr id="120" name=""/>
            <p:cNvGrpSpPr/>
            <p:nvPr/>
          </p:nvGrpSpPr>
          <p:grpSpPr>
            <a:xfrm>
              <a:off x="2362320" y="3124080"/>
              <a:ext cx="4362480" cy="2882880"/>
              <a:chOff x="2362320" y="3124080"/>
              <a:chExt cx="4362480" cy="288288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12408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4724280" y="335268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57600" y="41907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62320" y="53337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56386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038840" y="4495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60640" y="5803920"/>
            <a:ext cx="733320" cy="63360"/>
          </a:xfrm>
          <a:custGeom>
            <a:avLst/>
            <a:gdLst/>
            <a:ahLst/>
            <a:rect l="l" t="t" r="r" b="b"/>
            <a:pathLst>
              <a:path w="2035" h="175">
                <a:moveTo>
                  <a:pt x="3225" y="16297"/>
                </a:moveTo>
                <a:cubicBezTo>
                  <a:pt x="3389" y="16267"/>
                  <a:pt x="3536" y="16228"/>
                  <a:pt x="3696" y="16272"/>
                </a:cubicBezTo>
              </a:path>
              <a:path w="2035" h="175">
                <a:moveTo>
                  <a:pt x="4837" y="16173"/>
                </a:moveTo>
                <a:cubicBezTo>
                  <a:pt x="4979" y="16164"/>
                  <a:pt x="5118" y="16136"/>
                  <a:pt x="5259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3303720"/>
            <a:ext cx="768240" cy="420480"/>
          </a:xfrm>
          <a:custGeom>
            <a:avLst/>
            <a:gdLst/>
            <a:ahLst/>
            <a:rect l="l" t="t" r="r" b="b"/>
            <a:pathLst>
              <a:path w="2134" h="1167">
                <a:moveTo>
                  <a:pt x="2108" y="9475"/>
                </a:moveTo>
                <a:cubicBezTo>
                  <a:pt x="2108" y="9423"/>
                  <a:pt x="2036" y="9558"/>
                  <a:pt x="2009" y="9599"/>
                </a:cubicBezTo>
                <a:cubicBezTo>
                  <a:pt x="1963" y="9669"/>
                  <a:pt x="1889" y="9792"/>
                  <a:pt x="1836" y="9847"/>
                </a:cubicBezTo>
                <a:cubicBezTo>
                  <a:pt x="1774" y="9912"/>
                  <a:pt x="1706" y="9955"/>
                  <a:pt x="1637" y="9996"/>
                </a:cubicBezTo>
                <a:cubicBezTo>
                  <a:pt x="1612" y="10021"/>
                  <a:pt x="1604" y="10029"/>
                  <a:pt x="1588" y="10046"/>
                </a:cubicBezTo>
                <a:cubicBezTo>
                  <a:pt x="1656" y="10046"/>
                  <a:pt x="1698" y="10037"/>
                  <a:pt x="1761" y="10021"/>
                </a:cubicBezTo>
                <a:cubicBezTo>
                  <a:pt x="1838" y="10002"/>
                  <a:pt x="2341" y="9999"/>
                  <a:pt x="2356" y="10046"/>
                </a:cubicBezTo>
              </a:path>
              <a:path w="2134" h="1167">
                <a:moveTo>
                  <a:pt x="3621" y="9351"/>
                </a:moveTo>
                <a:cubicBezTo>
                  <a:pt x="3593" y="9323"/>
                  <a:pt x="3570" y="9270"/>
                  <a:pt x="3547" y="9252"/>
                </a:cubicBezTo>
                <a:cubicBezTo>
                  <a:pt x="3497" y="9214"/>
                  <a:pt x="3408" y="9189"/>
                  <a:pt x="3349" y="9178"/>
                </a:cubicBezTo>
                <a:cubicBezTo>
                  <a:pt x="3300" y="9169"/>
                  <a:pt x="3218" y="9202"/>
                  <a:pt x="3175" y="9227"/>
                </a:cubicBezTo>
                <a:cubicBezTo>
                  <a:pt x="3138" y="9248"/>
                  <a:pt x="3021" y="9314"/>
                  <a:pt x="3001" y="9351"/>
                </a:cubicBezTo>
                <a:cubicBezTo>
                  <a:pt x="2962" y="9422"/>
                  <a:pt x="2915" y="9495"/>
                  <a:pt x="2902" y="9575"/>
                </a:cubicBezTo>
                <a:cubicBezTo>
                  <a:pt x="2892" y="9636"/>
                  <a:pt x="2880" y="9685"/>
                  <a:pt x="2877" y="9748"/>
                </a:cubicBezTo>
                <a:cubicBezTo>
                  <a:pt x="2872" y="9845"/>
                  <a:pt x="2885" y="9938"/>
                  <a:pt x="2902" y="10021"/>
                </a:cubicBezTo>
                <a:cubicBezTo>
                  <a:pt x="2912" y="10072"/>
                  <a:pt x="2919" y="10123"/>
                  <a:pt x="2952" y="10170"/>
                </a:cubicBezTo>
                <a:cubicBezTo>
                  <a:pt x="2981" y="10212"/>
                  <a:pt x="3035" y="10244"/>
                  <a:pt x="3076" y="10269"/>
                </a:cubicBezTo>
                <a:cubicBezTo>
                  <a:pt x="3168" y="10325"/>
                  <a:pt x="3178" y="10329"/>
                  <a:pt x="3274" y="10319"/>
                </a:cubicBezTo>
                <a:cubicBezTo>
                  <a:pt x="3361" y="10310"/>
                  <a:pt x="3438" y="10334"/>
                  <a:pt x="3522" y="10294"/>
                </a:cubicBezTo>
                <a:cubicBezTo>
                  <a:pt x="3554" y="10279"/>
                  <a:pt x="3621" y="10239"/>
                  <a:pt x="3646" y="10220"/>
                </a:cubicBezTo>
                <a:cubicBezTo>
                  <a:pt x="3669" y="10203"/>
                  <a:pt x="3715" y="10133"/>
                  <a:pt x="3721" y="10096"/>
                </a:cubicBezTo>
                <a:cubicBezTo>
                  <a:pt x="3732" y="10025"/>
                  <a:pt x="3721" y="9944"/>
                  <a:pt x="3721" y="9872"/>
                </a:cubicBezTo>
                <a:cubicBezTo>
                  <a:pt x="3668" y="9872"/>
                  <a:pt x="3588" y="9895"/>
                  <a:pt x="3572" y="9897"/>
                </a:cubicBezTo>
                <a:cubicBezTo>
                  <a:pt x="3535" y="9903"/>
                  <a:pt x="3370" y="9926"/>
                  <a:pt x="3349" y="9922"/>
                </a:cubicBezTo>
                <a:cubicBezTo>
                  <a:pt x="3324" y="9922"/>
                  <a:pt x="3316" y="9922"/>
                  <a:pt x="3324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40" y="4081320"/>
            <a:ext cx="1697040" cy="1936800"/>
          </a:xfrm>
          <a:custGeom>
            <a:avLst/>
            <a:gdLst/>
            <a:ahLst/>
            <a:rect l="l" t="t" r="r" b="b"/>
            <a:pathLst>
              <a:path w="4714" h="5383">
                <a:moveTo>
                  <a:pt x="2307" y="11435"/>
                </a:moveTo>
                <a:cubicBezTo>
                  <a:pt x="2247" y="11553"/>
                  <a:pt x="2110" y="11618"/>
                  <a:pt x="2009" y="11708"/>
                </a:cubicBezTo>
                <a:cubicBezTo>
                  <a:pt x="1893" y="11812"/>
                  <a:pt x="1742" y="11920"/>
                  <a:pt x="1637" y="12030"/>
                </a:cubicBezTo>
                <a:cubicBezTo>
                  <a:pt x="1596" y="12074"/>
                  <a:pt x="1569" y="12080"/>
                  <a:pt x="1588" y="12080"/>
                </a:cubicBezTo>
                <a:cubicBezTo>
                  <a:pt x="1669" y="12074"/>
                  <a:pt x="1742" y="12038"/>
                  <a:pt x="1811" y="12030"/>
                </a:cubicBezTo>
                <a:cubicBezTo>
                  <a:pt x="2045" y="12004"/>
                  <a:pt x="2295" y="12030"/>
                  <a:pt x="2530" y="12030"/>
                </a:cubicBezTo>
              </a:path>
              <a:path w="4714" h="5383">
                <a:moveTo>
                  <a:pt x="3200" y="12254"/>
                </a:moveTo>
                <a:cubicBezTo>
                  <a:pt x="3365" y="12265"/>
                  <a:pt x="3517" y="12293"/>
                  <a:pt x="3671" y="12353"/>
                </a:cubicBezTo>
                <a:cubicBezTo>
                  <a:pt x="3714" y="12370"/>
                  <a:pt x="3760" y="12371"/>
                  <a:pt x="3770" y="12402"/>
                </a:cubicBezTo>
              </a:path>
              <a:path w="4714" h="5383">
                <a:moveTo>
                  <a:pt x="4242" y="12378"/>
                </a:moveTo>
                <a:cubicBezTo>
                  <a:pt x="4376" y="12378"/>
                  <a:pt x="4504" y="12395"/>
                  <a:pt x="4638" y="12402"/>
                </a:cubicBezTo>
                <a:cubicBezTo>
                  <a:pt x="4778" y="12409"/>
                  <a:pt x="4898" y="12432"/>
                  <a:pt x="5035" y="12452"/>
                </a:cubicBezTo>
              </a:path>
              <a:path w="4714" h="5383">
                <a:moveTo>
                  <a:pt x="5308" y="12378"/>
                </a:moveTo>
                <a:cubicBezTo>
                  <a:pt x="5475" y="12378"/>
                  <a:pt x="5637" y="12338"/>
                  <a:pt x="5804" y="12328"/>
                </a:cubicBezTo>
                <a:cubicBezTo>
                  <a:pt x="5841" y="12326"/>
                  <a:pt x="6083" y="12297"/>
                  <a:pt x="6102" y="12353"/>
                </a:cubicBezTo>
              </a:path>
              <a:path w="4714" h="5383">
                <a:moveTo>
                  <a:pt x="4762" y="11609"/>
                </a:moveTo>
                <a:cubicBezTo>
                  <a:pt x="4762" y="11659"/>
                  <a:pt x="4744" y="11576"/>
                  <a:pt x="4738" y="11559"/>
                </a:cubicBezTo>
                <a:cubicBezTo>
                  <a:pt x="4721" y="11506"/>
                  <a:pt x="4640" y="11470"/>
                  <a:pt x="4589" y="11460"/>
                </a:cubicBezTo>
                <a:cubicBezTo>
                  <a:pt x="4542" y="11451"/>
                  <a:pt x="4452" y="11505"/>
                  <a:pt x="4415" y="11534"/>
                </a:cubicBezTo>
                <a:cubicBezTo>
                  <a:pt x="4345" y="11589"/>
                  <a:pt x="4307" y="11721"/>
                  <a:pt x="4291" y="11807"/>
                </a:cubicBezTo>
                <a:cubicBezTo>
                  <a:pt x="4271" y="11916"/>
                  <a:pt x="4299" y="12029"/>
                  <a:pt x="4316" y="12129"/>
                </a:cubicBezTo>
                <a:cubicBezTo>
                  <a:pt x="4330" y="12214"/>
                  <a:pt x="4379" y="12219"/>
                  <a:pt x="4440" y="12254"/>
                </a:cubicBezTo>
                <a:cubicBezTo>
                  <a:pt x="4533" y="12307"/>
                  <a:pt x="4518" y="12321"/>
                  <a:pt x="4638" y="12328"/>
                </a:cubicBezTo>
                <a:cubicBezTo>
                  <a:pt x="4688" y="12331"/>
                  <a:pt x="4772" y="12298"/>
                  <a:pt x="4812" y="12278"/>
                </a:cubicBezTo>
                <a:cubicBezTo>
                  <a:pt x="4864" y="12253"/>
                  <a:pt x="4917" y="12212"/>
                  <a:pt x="4936" y="12154"/>
                </a:cubicBezTo>
                <a:cubicBezTo>
                  <a:pt x="4954" y="12100"/>
                  <a:pt x="4936" y="12015"/>
                  <a:pt x="4936" y="11956"/>
                </a:cubicBezTo>
                <a:cubicBezTo>
                  <a:pt x="4820" y="11956"/>
                  <a:pt x="4705" y="11956"/>
                  <a:pt x="4589" y="11956"/>
                </a:cubicBezTo>
              </a:path>
              <a:path w="4714" h="5383">
                <a:moveTo>
                  <a:pt x="3200" y="12303"/>
                </a:moveTo>
                <a:cubicBezTo>
                  <a:pt x="3208" y="12286"/>
                  <a:pt x="3263" y="12303"/>
                  <a:pt x="3324" y="12303"/>
                </a:cubicBezTo>
                <a:cubicBezTo>
                  <a:pt x="3439" y="12303"/>
                  <a:pt x="3536" y="12313"/>
                  <a:pt x="3646" y="12328"/>
                </a:cubicBezTo>
                <a:cubicBezTo>
                  <a:pt x="3718" y="12338"/>
                  <a:pt x="3798" y="12328"/>
                  <a:pt x="3870" y="12328"/>
                </a:cubicBezTo>
                <a:cubicBezTo>
                  <a:pt x="3918" y="12340"/>
                  <a:pt x="3930" y="12369"/>
                  <a:pt x="3870" y="12353"/>
                </a:cubicBezTo>
                <a:cubicBezTo>
                  <a:pt x="3740" y="12319"/>
                  <a:pt x="3600" y="12343"/>
                  <a:pt x="3473" y="12303"/>
                </a:cubicBezTo>
                <a:cubicBezTo>
                  <a:pt x="3407" y="12282"/>
                  <a:pt x="3372" y="12278"/>
                  <a:pt x="3299" y="12278"/>
                </a:cubicBezTo>
                <a:cubicBezTo>
                  <a:pt x="3291" y="12278"/>
                  <a:pt x="3282" y="12278"/>
                  <a:pt x="3274" y="12278"/>
                </a:cubicBezTo>
                <a:cubicBezTo>
                  <a:pt x="3379" y="12278"/>
                  <a:pt x="3470" y="12275"/>
                  <a:pt x="3572" y="12303"/>
                </a:cubicBezTo>
                <a:cubicBezTo>
                  <a:pt x="3650" y="12324"/>
                  <a:pt x="3721" y="12347"/>
                  <a:pt x="3795" y="12353"/>
                </a:cubicBezTo>
                <a:cubicBezTo>
                  <a:pt x="3841" y="12357"/>
                  <a:pt x="3856" y="12337"/>
                  <a:pt x="3870" y="12378"/>
                </a:cubicBezTo>
                <a:cubicBezTo>
                  <a:pt x="3728" y="12360"/>
                  <a:pt x="3615" y="12311"/>
                  <a:pt x="3473" y="12303"/>
                </a:cubicBezTo>
                <a:cubicBezTo>
                  <a:pt x="3416" y="12300"/>
                  <a:pt x="3356" y="12303"/>
                  <a:pt x="3299" y="12303"/>
                </a:cubicBezTo>
              </a:path>
              <a:path w="4714" h="5383">
                <a:moveTo>
                  <a:pt x="3497" y="11509"/>
                </a:moveTo>
                <a:cubicBezTo>
                  <a:pt x="3497" y="11423"/>
                  <a:pt x="3473" y="11902"/>
                  <a:pt x="3473" y="11906"/>
                </a:cubicBezTo>
                <a:cubicBezTo>
                  <a:pt x="3492" y="12022"/>
                  <a:pt x="3500" y="12038"/>
                  <a:pt x="3497" y="12105"/>
                </a:cubicBezTo>
                <a:cubicBezTo>
                  <a:pt x="3497" y="11936"/>
                  <a:pt x="3491" y="11776"/>
                  <a:pt x="3497" y="11609"/>
                </a:cubicBezTo>
                <a:cubicBezTo>
                  <a:pt x="3499" y="11547"/>
                  <a:pt x="3482" y="11406"/>
                  <a:pt x="3547" y="11385"/>
                </a:cubicBezTo>
                <a:cubicBezTo>
                  <a:pt x="3677" y="11343"/>
                  <a:pt x="3781" y="11336"/>
                  <a:pt x="3919" y="11336"/>
                </a:cubicBezTo>
                <a:cubicBezTo>
                  <a:pt x="3975" y="11336"/>
                  <a:pt x="3981" y="11321"/>
                  <a:pt x="3994" y="11361"/>
                </a:cubicBezTo>
              </a:path>
              <a:path w="4714" h="5383">
                <a:moveTo>
                  <a:pt x="3448" y="11782"/>
                </a:moveTo>
                <a:cubicBezTo>
                  <a:pt x="3531" y="11782"/>
                  <a:pt x="3630" y="11806"/>
                  <a:pt x="3696" y="11757"/>
                </a:cubicBezTo>
              </a:path>
              <a:path w="4714" h="5383">
                <a:moveTo>
                  <a:pt x="5407" y="11609"/>
                </a:moveTo>
                <a:cubicBezTo>
                  <a:pt x="5437" y="11843"/>
                  <a:pt x="5457" y="12067"/>
                  <a:pt x="5457" y="12303"/>
                </a:cubicBezTo>
                <a:cubicBezTo>
                  <a:pt x="5457" y="12311"/>
                  <a:pt x="5457" y="12320"/>
                  <a:pt x="5457" y="12328"/>
                </a:cubicBezTo>
              </a:path>
              <a:path w="4714" h="5383">
                <a:moveTo>
                  <a:pt x="5879" y="11584"/>
                </a:moveTo>
                <a:cubicBezTo>
                  <a:pt x="5889" y="11800"/>
                  <a:pt x="5904" y="12012"/>
                  <a:pt x="5904" y="12229"/>
                </a:cubicBezTo>
                <a:cubicBezTo>
                  <a:pt x="5904" y="12245"/>
                  <a:pt x="5904" y="12262"/>
                  <a:pt x="5904" y="12278"/>
                </a:cubicBezTo>
              </a:path>
              <a:path w="4714" h="5383">
                <a:moveTo>
                  <a:pt x="5507" y="12005"/>
                </a:moveTo>
                <a:cubicBezTo>
                  <a:pt x="5598" y="11986"/>
                  <a:pt x="5687" y="11965"/>
                  <a:pt x="5779" y="11956"/>
                </a:cubicBezTo>
              </a:path>
              <a:path w="4714" h="5383">
                <a:moveTo>
                  <a:pt x="2183" y="12948"/>
                </a:moveTo>
                <a:cubicBezTo>
                  <a:pt x="2121" y="13002"/>
                  <a:pt x="1983" y="13117"/>
                  <a:pt x="1910" y="13196"/>
                </a:cubicBezTo>
                <a:cubicBezTo>
                  <a:pt x="1732" y="13390"/>
                  <a:pt x="1583" y="13613"/>
                  <a:pt x="1414" y="13816"/>
                </a:cubicBezTo>
                <a:cubicBezTo>
                  <a:pt x="1389" y="13816"/>
                  <a:pt x="1381" y="13816"/>
                  <a:pt x="1389" y="13841"/>
                </a:cubicBezTo>
                <a:cubicBezTo>
                  <a:pt x="1521" y="13830"/>
                  <a:pt x="1655" y="13810"/>
                  <a:pt x="1786" y="13791"/>
                </a:cubicBezTo>
                <a:cubicBezTo>
                  <a:pt x="1928" y="13770"/>
                  <a:pt x="2071" y="13821"/>
                  <a:pt x="2208" y="13791"/>
                </a:cubicBezTo>
                <a:cubicBezTo>
                  <a:pt x="2253" y="13781"/>
                  <a:pt x="2236" y="13760"/>
                  <a:pt x="2257" y="13742"/>
                </a:cubicBezTo>
              </a:path>
              <a:path w="4714" h="5383">
                <a:moveTo>
                  <a:pt x="3225" y="13022"/>
                </a:moveTo>
                <a:cubicBezTo>
                  <a:pt x="3225" y="13225"/>
                  <a:pt x="3177" y="13398"/>
                  <a:pt x="3125" y="13593"/>
                </a:cubicBezTo>
                <a:cubicBezTo>
                  <a:pt x="3295" y="13701"/>
                  <a:pt x="3389" y="13608"/>
                  <a:pt x="3572" y="13618"/>
                </a:cubicBezTo>
                <a:cubicBezTo>
                  <a:pt x="3572" y="13626"/>
                  <a:pt x="3572" y="13635"/>
                  <a:pt x="3572" y="13643"/>
                </a:cubicBezTo>
              </a:path>
              <a:path w="4714" h="5383">
                <a:moveTo>
                  <a:pt x="3324" y="13419"/>
                </a:moveTo>
                <a:cubicBezTo>
                  <a:pt x="3376" y="13404"/>
                  <a:pt x="3649" y="13326"/>
                  <a:pt x="3646" y="13320"/>
                </a:cubicBezTo>
                <a:cubicBezTo>
                  <a:pt x="3630" y="13304"/>
                  <a:pt x="3613" y="13287"/>
                  <a:pt x="3597" y="13271"/>
                </a:cubicBezTo>
              </a:path>
              <a:path w="4714" h="5383">
                <a:moveTo>
                  <a:pt x="3299" y="13097"/>
                </a:moveTo>
                <a:cubicBezTo>
                  <a:pt x="3393" y="13097"/>
                  <a:pt x="3479" y="13044"/>
                  <a:pt x="3572" y="13047"/>
                </a:cubicBezTo>
                <a:cubicBezTo>
                  <a:pt x="3637" y="13069"/>
                  <a:pt x="3652" y="13077"/>
                  <a:pt x="3696" y="13072"/>
                </a:cubicBezTo>
              </a:path>
              <a:path w="4714" h="5383">
                <a:moveTo>
                  <a:pt x="4142" y="13097"/>
                </a:moveTo>
                <a:cubicBezTo>
                  <a:pt x="4086" y="13011"/>
                  <a:pt x="3984" y="13121"/>
                  <a:pt x="3944" y="13196"/>
                </a:cubicBezTo>
                <a:cubicBezTo>
                  <a:pt x="3858" y="13360"/>
                  <a:pt x="3763" y="13797"/>
                  <a:pt x="4068" y="13791"/>
                </a:cubicBezTo>
                <a:cubicBezTo>
                  <a:pt x="4246" y="13787"/>
                  <a:pt x="4285" y="13671"/>
                  <a:pt x="4341" y="13543"/>
                </a:cubicBezTo>
                <a:cubicBezTo>
                  <a:pt x="4202" y="13445"/>
                  <a:pt x="4174" y="13441"/>
                  <a:pt x="4018" y="13494"/>
                </a:cubicBezTo>
                <a:cubicBezTo>
                  <a:pt x="4010" y="13494"/>
                  <a:pt x="4002" y="13494"/>
                  <a:pt x="3994" y="13494"/>
                </a:cubicBezTo>
              </a:path>
              <a:path w="4714" h="5383">
                <a:moveTo>
                  <a:pt x="4738" y="13047"/>
                </a:moveTo>
                <a:cubicBezTo>
                  <a:pt x="4715" y="13279"/>
                  <a:pt x="4707" y="13510"/>
                  <a:pt x="4688" y="13742"/>
                </a:cubicBezTo>
                <a:cubicBezTo>
                  <a:pt x="4688" y="13734"/>
                  <a:pt x="4688" y="13725"/>
                  <a:pt x="4688" y="13717"/>
                </a:cubicBezTo>
              </a:path>
              <a:path w="4714" h="5383">
                <a:moveTo>
                  <a:pt x="5110" y="13022"/>
                </a:moveTo>
                <a:cubicBezTo>
                  <a:pt x="5141" y="13209"/>
                  <a:pt x="5133" y="13375"/>
                  <a:pt x="5110" y="13568"/>
                </a:cubicBezTo>
                <a:cubicBezTo>
                  <a:pt x="5093" y="13714"/>
                  <a:pt x="5081" y="13683"/>
                  <a:pt x="5060" y="13767"/>
                </a:cubicBezTo>
              </a:path>
              <a:path w="4714" h="5383">
                <a:moveTo>
                  <a:pt x="4663" y="13370"/>
                </a:moveTo>
                <a:cubicBezTo>
                  <a:pt x="4814" y="13362"/>
                  <a:pt x="4961" y="13334"/>
                  <a:pt x="5110" y="13320"/>
                </a:cubicBezTo>
              </a:path>
              <a:path w="4714" h="5383">
                <a:moveTo>
                  <a:pt x="2257" y="14536"/>
                </a:moveTo>
                <a:cubicBezTo>
                  <a:pt x="2117" y="14738"/>
                  <a:pt x="1957" y="14928"/>
                  <a:pt x="1786" y="15106"/>
                </a:cubicBezTo>
                <a:cubicBezTo>
                  <a:pt x="1682" y="15210"/>
                  <a:pt x="1657" y="15227"/>
                  <a:pt x="1612" y="15304"/>
                </a:cubicBezTo>
                <a:cubicBezTo>
                  <a:pt x="1795" y="15304"/>
                  <a:pt x="1975" y="15268"/>
                  <a:pt x="2158" y="15280"/>
                </a:cubicBezTo>
                <a:cubicBezTo>
                  <a:pt x="2248" y="15286"/>
                  <a:pt x="2318" y="15304"/>
                  <a:pt x="2406" y="15304"/>
                </a:cubicBezTo>
              </a:path>
              <a:path w="4714" h="5383">
                <a:moveTo>
                  <a:pt x="3175" y="14536"/>
                </a:moveTo>
                <a:cubicBezTo>
                  <a:pt x="3175" y="14370"/>
                  <a:pt x="3227" y="14816"/>
                  <a:pt x="3225" y="14982"/>
                </a:cubicBezTo>
                <a:cubicBezTo>
                  <a:pt x="3205" y="15122"/>
                  <a:pt x="3196" y="15146"/>
                  <a:pt x="3200" y="15230"/>
                </a:cubicBezTo>
              </a:path>
              <a:path w="4714" h="5383">
                <a:moveTo>
                  <a:pt x="3621" y="14337"/>
                </a:moveTo>
                <a:cubicBezTo>
                  <a:pt x="3680" y="14593"/>
                  <a:pt x="3696" y="14819"/>
                  <a:pt x="3696" y="15081"/>
                </a:cubicBezTo>
                <a:cubicBezTo>
                  <a:pt x="3696" y="15139"/>
                  <a:pt x="3713" y="15164"/>
                  <a:pt x="3671" y="15156"/>
                </a:cubicBezTo>
              </a:path>
              <a:path w="4714" h="5383">
                <a:moveTo>
                  <a:pt x="3150" y="14932"/>
                </a:moveTo>
                <a:cubicBezTo>
                  <a:pt x="3253" y="14913"/>
                  <a:pt x="3473" y="14827"/>
                  <a:pt x="3572" y="14858"/>
                </a:cubicBezTo>
                <a:cubicBezTo>
                  <a:pt x="3609" y="14870"/>
                  <a:pt x="3651" y="14894"/>
                  <a:pt x="3696" y="14908"/>
                </a:cubicBezTo>
              </a:path>
              <a:path w="4714" h="5383">
                <a:moveTo>
                  <a:pt x="4366" y="14560"/>
                </a:moveTo>
                <a:cubicBezTo>
                  <a:pt x="4413" y="14544"/>
                  <a:pt x="4390" y="14464"/>
                  <a:pt x="4341" y="14436"/>
                </a:cubicBezTo>
                <a:cubicBezTo>
                  <a:pt x="4175" y="14341"/>
                  <a:pt x="4077" y="14498"/>
                  <a:pt x="4018" y="14635"/>
                </a:cubicBezTo>
                <a:cubicBezTo>
                  <a:pt x="3955" y="14782"/>
                  <a:pt x="3860" y="15126"/>
                  <a:pt x="4043" y="15230"/>
                </a:cubicBezTo>
                <a:cubicBezTo>
                  <a:pt x="4209" y="15325"/>
                  <a:pt x="4392" y="15138"/>
                  <a:pt x="4490" y="15032"/>
                </a:cubicBezTo>
                <a:cubicBezTo>
                  <a:pt x="4423" y="14877"/>
                  <a:pt x="4363" y="14828"/>
                  <a:pt x="4192" y="14908"/>
                </a:cubicBezTo>
                <a:cubicBezTo>
                  <a:pt x="4169" y="14930"/>
                  <a:pt x="4164" y="14938"/>
                  <a:pt x="4142" y="14932"/>
                </a:cubicBezTo>
              </a:path>
              <a:path w="4714" h="5383">
                <a:moveTo>
                  <a:pt x="4837" y="14461"/>
                </a:moveTo>
                <a:cubicBezTo>
                  <a:pt x="4837" y="14653"/>
                  <a:pt x="4818" y="14767"/>
                  <a:pt x="4762" y="14957"/>
                </a:cubicBezTo>
                <a:cubicBezTo>
                  <a:pt x="4722" y="15080"/>
                  <a:pt x="4705" y="15102"/>
                  <a:pt x="4713" y="15180"/>
                </a:cubicBezTo>
                <a:cubicBezTo>
                  <a:pt x="4834" y="15180"/>
                  <a:pt x="4923" y="15176"/>
                  <a:pt x="5035" y="15131"/>
                </a:cubicBezTo>
              </a:path>
              <a:path w="4714" h="5383">
                <a:moveTo>
                  <a:pt x="4738" y="14957"/>
                </a:moveTo>
                <a:cubicBezTo>
                  <a:pt x="4829" y="14915"/>
                  <a:pt x="4985" y="14904"/>
                  <a:pt x="5060" y="14858"/>
                </a:cubicBezTo>
                <a:cubicBezTo>
                  <a:pt x="5060" y="14850"/>
                  <a:pt x="5060" y="14841"/>
                  <a:pt x="5060" y="14833"/>
                </a:cubicBezTo>
              </a:path>
              <a:path w="4714" h="5383">
                <a:moveTo>
                  <a:pt x="4787" y="14486"/>
                </a:moveTo>
                <a:cubicBezTo>
                  <a:pt x="4921" y="14423"/>
                  <a:pt x="5011" y="14387"/>
                  <a:pt x="5159" y="14387"/>
                </a:cubicBezTo>
              </a:path>
              <a:path w="4714" h="5383">
                <a:moveTo>
                  <a:pt x="2257" y="15999"/>
                </a:moveTo>
                <a:cubicBezTo>
                  <a:pt x="2257" y="15892"/>
                  <a:pt x="2155" y="16118"/>
                  <a:pt x="2084" y="16197"/>
                </a:cubicBezTo>
                <a:cubicBezTo>
                  <a:pt x="1955" y="16341"/>
                  <a:pt x="1775" y="16463"/>
                  <a:pt x="1662" y="16619"/>
                </a:cubicBezTo>
                <a:cubicBezTo>
                  <a:pt x="1645" y="16642"/>
                  <a:pt x="1646" y="16641"/>
                  <a:pt x="1637" y="16669"/>
                </a:cubicBezTo>
                <a:cubicBezTo>
                  <a:pt x="1748" y="16669"/>
                  <a:pt x="1839" y="16604"/>
                  <a:pt x="1960" y="16594"/>
                </a:cubicBezTo>
                <a:cubicBezTo>
                  <a:pt x="2109" y="16581"/>
                  <a:pt x="2265" y="16591"/>
                  <a:pt x="2406" y="16619"/>
                </a:cubicBezTo>
                <a:cubicBezTo>
                  <a:pt x="2428" y="16623"/>
                  <a:pt x="2457" y="16619"/>
                  <a:pt x="2480" y="16619"/>
                </a:cubicBezTo>
              </a:path>
              <a:path w="4714" h="5383">
                <a:moveTo>
                  <a:pt x="3274" y="15875"/>
                </a:moveTo>
                <a:cubicBezTo>
                  <a:pt x="3266" y="16152"/>
                  <a:pt x="3193" y="16430"/>
                  <a:pt x="3175" y="16694"/>
                </a:cubicBezTo>
                <a:cubicBezTo>
                  <a:pt x="3217" y="16734"/>
                  <a:pt x="3242" y="16726"/>
                  <a:pt x="3274" y="16644"/>
                </a:cubicBezTo>
              </a:path>
              <a:path w="4714" h="5383">
                <a:moveTo>
                  <a:pt x="3770" y="15925"/>
                </a:moveTo>
                <a:cubicBezTo>
                  <a:pt x="3801" y="16168"/>
                  <a:pt x="3777" y="16377"/>
                  <a:pt x="3746" y="16619"/>
                </a:cubicBezTo>
                <a:cubicBezTo>
                  <a:pt x="3746" y="16654"/>
                  <a:pt x="3737" y="16658"/>
                  <a:pt x="3696" y="16619"/>
                </a:cubicBezTo>
              </a:path>
              <a:path w="4714" h="5383">
                <a:moveTo>
                  <a:pt x="4341" y="15925"/>
                </a:moveTo>
                <a:cubicBezTo>
                  <a:pt x="4222" y="15948"/>
                  <a:pt x="4176" y="15977"/>
                  <a:pt x="4118" y="16098"/>
                </a:cubicBezTo>
                <a:cubicBezTo>
                  <a:pt x="4051" y="16236"/>
                  <a:pt x="3881" y="16563"/>
                  <a:pt x="4118" y="16644"/>
                </a:cubicBezTo>
                <a:cubicBezTo>
                  <a:pt x="4319" y="16712"/>
                  <a:pt x="4441" y="16525"/>
                  <a:pt x="4490" y="16371"/>
                </a:cubicBezTo>
                <a:cubicBezTo>
                  <a:pt x="4490" y="16363"/>
                  <a:pt x="4490" y="16354"/>
                  <a:pt x="4490" y="16346"/>
                </a:cubicBezTo>
                <a:cubicBezTo>
                  <a:pt x="4364" y="16332"/>
                  <a:pt x="4030" y="16457"/>
                  <a:pt x="4142" y="16396"/>
                </a:cubicBezTo>
                <a:cubicBezTo>
                  <a:pt x="4167" y="16379"/>
                  <a:pt x="4192" y="16363"/>
                  <a:pt x="4217" y="16346"/>
                </a:cubicBezTo>
              </a:path>
              <a:path w="4714" h="5383">
                <a:moveTo>
                  <a:pt x="4936" y="15900"/>
                </a:moveTo>
                <a:cubicBezTo>
                  <a:pt x="4913" y="15990"/>
                  <a:pt x="4934" y="16082"/>
                  <a:pt x="4936" y="16197"/>
                </a:cubicBezTo>
                <a:cubicBezTo>
                  <a:pt x="4938" y="16341"/>
                  <a:pt x="4952" y="16699"/>
                  <a:pt x="4887" y="16570"/>
                </a:cubicBezTo>
                <a:cubicBezTo>
                  <a:pt x="4857" y="16350"/>
                  <a:pt x="4848" y="16124"/>
                  <a:pt x="4837" y="15900"/>
                </a:cubicBezTo>
                <a:cubicBezTo>
                  <a:pt x="4974" y="15920"/>
                  <a:pt x="5093" y="15946"/>
                  <a:pt x="5234" y="15949"/>
                </a:cubicBezTo>
                <a:cubicBezTo>
                  <a:pt x="5322" y="15951"/>
                  <a:pt x="5365" y="15920"/>
                  <a:pt x="5383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3040" y="2536920"/>
            <a:ext cx="4116240" cy="3079800"/>
          </a:xfrm>
          <a:custGeom>
            <a:avLst/>
            <a:gdLst/>
            <a:ahLst/>
            <a:rect l="l" t="t" r="r" b="b"/>
            <a:pathLst>
              <a:path w="11436" h="8558">
                <a:moveTo>
                  <a:pt x="16966" y="7045"/>
                </a:moveTo>
                <a:cubicBezTo>
                  <a:pt x="16999" y="7045"/>
                  <a:pt x="16983" y="7045"/>
                  <a:pt x="17016" y="7045"/>
                </a:cubicBezTo>
                <a:cubicBezTo>
                  <a:pt x="17488" y="7045"/>
                  <a:pt x="17961" y="7038"/>
                  <a:pt x="18430" y="7069"/>
                </a:cubicBezTo>
                <a:cubicBezTo>
                  <a:pt x="18660" y="7084"/>
                  <a:pt x="19077" y="7069"/>
                  <a:pt x="19224" y="7069"/>
                </a:cubicBezTo>
              </a:path>
              <a:path w="11436" h="8558">
                <a:moveTo>
                  <a:pt x="16694" y="8384"/>
                </a:moveTo>
                <a:cubicBezTo>
                  <a:pt x="16735" y="8378"/>
                  <a:pt x="16756" y="8364"/>
                  <a:pt x="16793" y="8359"/>
                </a:cubicBezTo>
                <a:cubicBezTo>
                  <a:pt x="16994" y="8332"/>
                  <a:pt x="17218" y="8364"/>
                  <a:pt x="17413" y="8384"/>
                </a:cubicBezTo>
                <a:cubicBezTo>
                  <a:pt x="17659" y="8410"/>
                  <a:pt x="17912" y="8384"/>
                  <a:pt x="18157" y="8409"/>
                </a:cubicBezTo>
                <a:cubicBezTo>
                  <a:pt x="18327" y="8426"/>
                  <a:pt x="18507" y="8409"/>
                  <a:pt x="18678" y="8409"/>
                </a:cubicBezTo>
              </a:path>
              <a:path w="11436" h="8558">
                <a:moveTo>
                  <a:pt x="8954" y="14759"/>
                </a:moveTo>
                <a:cubicBezTo>
                  <a:pt x="8954" y="14751"/>
                  <a:pt x="8954" y="14742"/>
                  <a:pt x="8954" y="14734"/>
                </a:cubicBezTo>
                <a:cubicBezTo>
                  <a:pt x="8991" y="14746"/>
                  <a:pt x="9005" y="14811"/>
                  <a:pt x="9029" y="14858"/>
                </a:cubicBezTo>
                <a:cubicBezTo>
                  <a:pt x="9052" y="14905"/>
                  <a:pt x="9091" y="15003"/>
                  <a:pt x="9079" y="15056"/>
                </a:cubicBezTo>
                <a:cubicBezTo>
                  <a:pt x="9064" y="15122"/>
                  <a:pt x="9054" y="15158"/>
                  <a:pt x="9054" y="15230"/>
                </a:cubicBezTo>
                <a:cubicBezTo>
                  <a:pt x="9054" y="15275"/>
                  <a:pt x="9039" y="15290"/>
                  <a:pt x="9029" y="15329"/>
                </a:cubicBezTo>
              </a:path>
              <a:path w="11436" h="8558">
                <a:moveTo>
                  <a:pt x="11534" y="12774"/>
                </a:moveTo>
                <a:cubicBezTo>
                  <a:pt x="11502" y="12793"/>
                  <a:pt x="11473" y="12796"/>
                  <a:pt x="11435" y="12824"/>
                </a:cubicBezTo>
                <a:cubicBezTo>
                  <a:pt x="11357" y="12881"/>
                  <a:pt x="11294" y="12946"/>
                  <a:pt x="11212" y="12998"/>
                </a:cubicBezTo>
                <a:cubicBezTo>
                  <a:pt x="11095" y="13073"/>
                  <a:pt x="10980" y="13137"/>
                  <a:pt x="10864" y="13221"/>
                </a:cubicBezTo>
                <a:cubicBezTo>
                  <a:pt x="10782" y="13280"/>
                  <a:pt x="10700" y="13338"/>
                  <a:pt x="10616" y="13395"/>
                </a:cubicBezTo>
                <a:cubicBezTo>
                  <a:pt x="10314" y="13599"/>
                  <a:pt x="10002" y="13807"/>
                  <a:pt x="9723" y="14039"/>
                </a:cubicBezTo>
                <a:cubicBezTo>
                  <a:pt x="9601" y="14140"/>
                  <a:pt x="9471" y="14237"/>
                  <a:pt x="9351" y="14337"/>
                </a:cubicBezTo>
                <a:cubicBezTo>
                  <a:pt x="9234" y="14434"/>
                  <a:pt x="9120" y="14537"/>
                  <a:pt x="9004" y="14635"/>
                </a:cubicBezTo>
                <a:cubicBezTo>
                  <a:pt x="8901" y="14721"/>
                  <a:pt x="8827" y="14816"/>
                  <a:pt x="8731" y="14908"/>
                </a:cubicBezTo>
                <a:cubicBezTo>
                  <a:pt x="8584" y="15048"/>
                  <a:pt x="8423" y="15161"/>
                  <a:pt x="8260" y="15280"/>
                </a:cubicBezTo>
                <a:cubicBezTo>
                  <a:pt x="8194" y="15328"/>
                  <a:pt x="8123" y="15377"/>
                  <a:pt x="8062" y="15429"/>
                </a:cubicBezTo>
                <a:cubicBezTo>
                  <a:pt x="8005" y="15478"/>
                  <a:pt x="7956" y="15558"/>
                  <a:pt x="7913" y="15602"/>
                </a:cubicBezTo>
                <a:cubicBezTo>
                  <a:pt x="8073" y="15561"/>
                  <a:pt x="8220" y="15527"/>
                  <a:pt x="8384" y="15503"/>
                </a:cubicBezTo>
                <a:cubicBezTo>
                  <a:pt x="8504" y="15486"/>
                  <a:pt x="8636" y="15460"/>
                  <a:pt x="8756" y="15453"/>
                </a:cubicBezTo>
                <a:cubicBezTo>
                  <a:pt x="8940" y="15442"/>
                  <a:pt x="9124" y="15459"/>
                  <a:pt x="9302" y="15478"/>
                </a:cubicBezTo>
                <a:cubicBezTo>
                  <a:pt x="9473" y="15497"/>
                  <a:pt x="9625" y="15482"/>
                  <a:pt x="9798" y="15478"/>
                </a:cubicBezTo>
                <a:cubicBezTo>
                  <a:pt x="10121" y="15471"/>
                  <a:pt x="10447" y="15493"/>
                  <a:pt x="10765" y="15478"/>
                </a:cubicBezTo>
                <a:cubicBezTo>
                  <a:pt x="10944" y="15470"/>
                  <a:pt x="11133" y="15473"/>
                  <a:pt x="11311" y="15453"/>
                </a:cubicBezTo>
                <a:cubicBezTo>
                  <a:pt x="11491" y="15433"/>
                  <a:pt x="11676" y="15379"/>
                  <a:pt x="11857" y="15379"/>
                </a:cubicBezTo>
                <a:cubicBezTo>
                  <a:pt x="12043" y="15379"/>
                  <a:pt x="12217" y="15384"/>
                  <a:pt x="12402" y="15379"/>
                </a:cubicBezTo>
                <a:cubicBezTo>
                  <a:pt x="12669" y="15372"/>
                  <a:pt x="12930" y="15401"/>
                  <a:pt x="13196" y="15404"/>
                </a:cubicBezTo>
                <a:cubicBezTo>
                  <a:pt x="13593" y="15409"/>
                  <a:pt x="13991" y="15399"/>
                  <a:pt x="14387" y="15429"/>
                </a:cubicBezTo>
                <a:cubicBezTo>
                  <a:pt x="14673" y="15451"/>
                  <a:pt x="14942" y="15478"/>
                  <a:pt x="15230" y="15478"/>
                </a:cubicBezTo>
                <a:cubicBezTo>
                  <a:pt x="15494" y="15478"/>
                  <a:pt x="15714" y="15466"/>
                  <a:pt x="15974" y="15503"/>
                </a:cubicBezTo>
                <a:cubicBezTo>
                  <a:pt x="16013" y="15509"/>
                  <a:pt x="16116" y="15527"/>
                  <a:pt x="16123" y="15528"/>
                </a:cubicBezTo>
              </a:path>
              <a:path w="11436" h="8558">
                <a:moveTo>
                  <a:pt x="14362" y="10269"/>
                </a:moveTo>
                <a:cubicBezTo>
                  <a:pt x="14318" y="10299"/>
                  <a:pt x="14273" y="10328"/>
                  <a:pt x="14213" y="10368"/>
                </a:cubicBezTo>
                <a:cubicBezTo>
                  <a:pt x="14083" y="10455"/>
                  <a:pt x="13948" y="10532"/>
                  <a:pt x="13816" y="10616"/>
                </a:cubicBezTo>
                <a:cubicBezTo>
                  <a:pt x="13613" y="10745"/>
                  <a:pt x="13407" y="10885"/>
                  <a:pt x="13221" y="11038"/>
                </a:cubicBezTo>
                <a:cubicBezTo>
                  <a:pt x="13080" y="11154"/>
                  <a:pt x="12945" y="11273"/>
                  <a:pt x="12799" y="11385"/>
                </a:cubicBezTo>
                <a:cubicBezTo>
                  <a:pt x="12666" y="11488"/>
                  <a:pt x="12537" y="11589"/>
                  <a:pt x="12402" y="11683"/>
                </a:cubicBezTo>
                <a:cubicBezTo>
                  <a:pt x="12138" y="11868"/>
                  <a:pt x="11857" y="12034"/>
                  <a:pt x="11584" y="12204"/>
                </a:cubicBezTo>
                <a:cubicBezTo>
                  <a:pt x="10988" y="12575"/>
                  <a:pt x="10336" y="12887"/>
                  <a:pt x="9773" y="13295"/>
                </a:cubicBezTo>
                <a:cubicBezTo>
                  <a:pt x="9545" y="13460"/>
                  <a:pt x="9316" y="13636"/>
                  <a:pt x="9103" y="13816"/>
                </a:cubicBezTo>
                <a:cubicBezTo>
                  <a:pt x="8825" y="14051"/>
                  <a:pt x="8661" y="14339"/>
                  <a:pt x="8434" y="14610"/>
                </a:cubicBezTo>
                <a:cubicBezTo>
                  <a:pt x="8254" y="14824"/>
                  <a:pt x="8029" y="15017"/>
                  <a:pt x="7863" y="15230"/>
                </a:cubicBezTo>
                <a:cubicBezTo>
                  <a:pt x="7840" y="15253"/>
                  <a:pt x="7832" y="15257"/>
                  <a:pt x="7838" y="15280"/>
                </a:cubicBezTo>
                <a:cubicBezTo>
                  <a:pt x="7963" y="15289"/>
                  <a:pt x="8085" y="15301"/>
                  <a:pt x="8210" y="15304"/>
                </a:cubicBezTo>
                <a:cubicBezTo>
                  <a:pt x="8543" y="15313"/>
                  <a:pt x="8872" y="15290"/>
                  <a:pt x="9203" y="15280"/>
                </a:cubicBezTo>
                <a:cubicBezTo>
                  <a:pt x="9361" y="15275"/>
                  <a:pt x="9518" y="15274"/>
                  <a:pt x="9674" y="15255"/>
                </a:cubicBezTo>
                <a:cubicBezTo>
                  <a:pt x="9901" y="15228"/>
                  <a:pt x="10117" y="15219"/>
                  <a:pt x="10344" y="15205"/>
                </a:cubicBezTo>
                <a:cubicBezTo>
                  <a:pt x="10534" y="15193"/>
                  <a:pt x="10723" y="15163"/>
                  <a:pt x="10914" y="15156"/>
                </a:cubicBezTo>
                <a:cubicBezTo>
                  <a:pt x="11238" y="15144"/>
                  <a:pt x="11560" y="15157"/>
                  <a:pt x="11881" y="15131"/>
                </a:cubicBezTo>
                <a:cubicBezTo>
                  <a:pt x="12094" y="15114"/>
                  <a:pt x="12314" y="15088"/>
                  <a:pt x="12526" y="15081"/>
                </a:cubicBezTo>
                <a:cubicBezTo>
                  <a:pt x="13146" y="15061"/>
                  <a:pt x="13773" y="15087"/>
                  <a:pt x="14387" y="15156"/>
                </a:cubicBezTo>
                <a:cubicBezTo>
                  <a:pt x="14661" y="15187"/>
                  <a:pt x="14932" y="15223"/>
                  <a:pt x="15205" y="15255"/>
                </a:cubicBezTo>
                <a:cubicBezTo>
                  <a:pt x="15520" y="15291"/>
                  <a:pt x="15924" y="15348"/>
                  <a:pt x="16197" y="15379"/>
                </a:cubicBezTo>
              </a:path>
              <a:path w="11436" h="8558">
                <a:moveTo>
                  <a:pt x="16197" y="15429"/>
                </a:moveTo>
                <a:cubicBezTo>
                  <a:pt x="16067" y="15408"/>
                  <a:pt x="15938" y="15389"/>
                  <a:pt x="15801" y="15379"/>
                </a:cubicBezTo>
                <a:cubicBezTo>
                  <a:pt x="15515" y="15358"/>
                  <a:pt x="15241" y="15319"/>
                  <a:pt x="14957" y="15280"/>
                </a:cubicBezTo>
                <a:cubicBezTo>
                  <a:pt x="14743" y="15251"/>
                  <a:pt x="14527" y="15240"/>
                  <a:pt x="14312" y="15230"/>
                </a:cubicBezTo>
                <a:cubicBezTo>
                  <a:pt x="13931" y="15213"/>
                  <a:pt x="13549" y="15195"/>
                  <a:pt x="13171" y="15205"/>
                </a:cubicBezTo>
                <a:cubicBezTo>
                  <a:pt x="11897" y="15238"/>
                  <a:pt x="10620" y="15205"/>
                  <a:pt x="9351" y="15255"/>
                </a:cubicBezTo>
                <a:cubicBezTo>
                  <a:pt x="9193" y="15261"/>
                  <a:pt x="9036" y="15253"/>
                  <a:pt x="8880" y="15280"/>
                </a:cubicBezTo>
                <a:cubicBezTo>
                  <a:pt x="8803" y="15293"/>
                  <a:pt x="8733" y="15319"/>
                  <a:pt x="8657" y="15329"/>
                </a:cubicBezTo>
                <a:cubicBezTo>
                  <a:pt x="8543" y="15343"/>
                  <a:pt x="8424" y="15342"/>
                  <a:pt x="8310" y="15354"/>
                </a:cubicBezTo>
                <a:cubicBezTo>
                  <a:pt x="8379" y="15309"/>
                  <a:pt x="8587" y="15157"/>
                  <a:pt x="8682" y="15106"/>
                </a:cubicBezTo>
                <a:cubicBezTo>
                  <a:pt x="8917" y="14981"/>
                  <a:pt x="9175" y="14877"/>
                  <a:pt x="9401" y="14734"/>
                </a:cubicBezTo>
                <a:cubicBezTo>
                  <a:pt x="9596" y="14611"/>
                  <a:pt x="9779" y="14464"/>
                  <a:pt x="9971" y="14337"/>
                </a:cubicBezTo>
                <a:cubicBezTo>
                  <a:pt x="10155" y="14215"/>
                  <a:pt x="10336" y="14080"/>
                  <a:pt x="10517" y="13965"/>
                </a:cubicBezTo>
                <a:cubicBezTo>
                  <a:pt x="11170" y="13550"/>
                  <a:pt x="11700" y="13054"/>
                  <a:pt x="12303" y="12576"/>
                </a:cubicBezTo>
                <a:cubicBezTo>
                  <a:pt x="12548" y="12381"/>
                  <a:pt x="12795" y="12191"/>
                  <a:pt x="13047" y="12005"/>
                </a:cubicBezTo>
                <a:cubicBezTo>
                  <a:pt x="13564" y="11624"/>
                  <a:pt x="14044" y="11132"/>
                  <a:pt x="14486" y="10666"/>
                </a:cubicBezTo>
                <a:cubicBezTo>
                  <a:pt x="14553" y="10595"/>
                  <a:pt x="14697" y="10476"/>
                  <a:pt x="14759" y="10393"/>
                </a:cubicBezTo>
                <a:cubicBezTo>
                  <a:pt x="14788" y="10337"/>
                  <a:pt x="14798" y="10313"/>
                  <a:pt x="14808" y="10269"/>
                </a:cubicBezTo>
                <a:cubicBezTo>
                  <a:pt x="14741" y="10312"/>
                  <a:pt x="14626" y="10384"/>
                  <a:pt x="14536" y="10443"/>
                </a:cubicBezTo>
              </a:path>
              <a:path w="11436" h="8558">
                <a:moveTo>
                  <a:pt x="16297" y="15354"/>
                </a:moveTo>
                <a:cubicBezTo>
                  <a:pt x="15825" y="15354"/>
                  <a:pt x="15377" y="15275"/>
                  <a:pt x="14908" y="15255"/>
                </a:cubicBezTo>
                <a:cubicBezTo>
                  <a:pt x="14478" y="15237"/>
                  <a:pt x="14048" y="15197"/>
                  <a:pt x="13618" y="15180"/>
                </a:cubicBezTo>
                <a:cubicBezTo>
                  <a:pt x="13247" y="15166"/>
                  <a:pt x="12868" y="15180"/>
                  <a:pt x="12502" y="15180"/>
                </a:cubicBezTo>
                <a:cubicBezTo>
                  <a:pt x="12191" y="15180"/>
                  <a:pt x="11868" y="15221"/>
                  <a:pt x="11559" y="15255"/>
                </a:cubicBezTo>
                <a:cubicBezTo>
                  <a:pt x="11286" y="15285"/>
                  <a:pt x="11014" y="15318"/>
                  <a:pt x="10740" y="15329"/>
                </a:cubicBezTo>
                <a:cubicBezTo>
                  <a:pt x="10442" y="15341"/>
                  <a:pt x="10145" y="15336"/>
                  <a:pt x="9847" y="15354"/>
                </a:cubicBezTo>
                <a:cubicBezTo>
                  <a:pt x="9574" y="15371"/>
                  <a:pt x="9301" y="15400"/>
                  <a:pt x="9029" y="15429"/>
                </a:cubicBezTo>
                <a:cubicBezTo>
                  <a:pt x="8887" y="15444"/>
                  <a:pt x="8749" y="15470"/>
                  <a:pt x="8607" y="15478"/>
                </a:cubicBezTo>
                <a:cubicBezTo>
                  <a:pt x="8480" y="15485"/>
                  <a:pt x="8359" y="15467"/>
                  <a:pt x="8235" y="15453"/>
                </a:cubicBezTo>
                <a:cubicBezTo>
                  <a:pt x="8142" y="15442"/>
                  <a:pt x="8056" y="15432"/>
                  <a:pt x="7962" y="15429"/>
                </a:cubicBezTo>
                <a:cubicBezTo>
                  <a:pt x="8109" y="15329"/>
                  <a:pt x="8258" y="15214"/>
                  <a:pt x="8434" y="15131"/>
                </a:cubicBezTo>
                <a:cubicBezTo>
                  <a:pt x="8731" y="14991"/>
                  <a:pt x="8912" y="14846"/>
                  <a:pt x="9153" y="14635"/>
                </a:cubicBezTo>
                <a:cubicBezTo>
                  <a:pt x="9303" y="14504"/>
                  <a:pt x="9450" y="14370"/>
                  <a:pt x="9599" y="14238"/>
                </a:cubicBezTo>
                <a:cubicBezTo>
                  <a:pt x="9741" y="14112"/>
                  <a:pt x="9885" y="13995"/>
                  <a:pt x="10046" y="13891"/>
                </a:cubicBezTo>
                <a:cubicBezTo>
                  <a:pt x="10252" y="13758"/>
                  <a:pt x="10458" y="13621"/>
                  <a:pt x="10666" y="13494"/>
                </a:cubicBezTo>
                <a:cubicBezTo>
                  <a:pt x="10876" y="13366"/>
                  <a:pt x="11050" y="13233"/>
                  <a:pt x="11237" y="13072"/>
                </a:cubicBezTo>
                <a:cubicBezTo>
                  <a:pt x="11346" y="12979"/>
                  <a:pt x="11464" y="12882"/>
                  <a:pt x="11559" y="12774"/>
                </a:cubicBezTo>
                <a:cubicBezTo>
                  <a:pt x="11582" y="12748"/>
                  <a:pt x="11561" y="12751"/>
                  <a:pt x="11584" y="12725"/>
                </a:cubicBezTo>
              </a:path>
              <a:path w="11436" h="8558">
                <a:moveTo>
                  <a:pt x="14461" y="10344"/>
                </a:moveTo>
                <a:cubicBezTo>
                  <a:pt x="14452" y="10308"/>
                  <a:pt x="14452" y="10327"/>
                  <a:pt x="14436" y="10294"/>
                </a:cubicBezTo>
                <a:cubicBezTo>
                  <a:pt x="14371" y="10330"/>
                  <a:pt x="14288" y="10374"/>
                  <a:pt x="14213" y="10418"/>
                </a:cubicBezTo>
                <a:cubicBezTo>
                  <a:pt x="13996" y="10546"/>
                  <a:pt x="13759" y="10641"/>
                  <a:pt x="13543" y="10765"/>
                </a:cubicBezTo>
                <a:cubicBezTo>
                  <a:pt x="13366" y="10867"/>
                  <a:pt x="13172" y="11004"/>
                  <a:pt x="13022" y="11137"/>
                </a:cubicBezTo>
                <a:cubicBezTo>
                  <a:pt x="12773" y="11359"/>
                  <a:pt x="12553" y="11596"/>
                  <a:pt x="12278" y="11782"/>
                </a:cubicBezTo>
                <a:cubicBezTo>
                  <a:pt x="12150" y="11868"/>
                  <a:pt x="12012" y="11948"/>
                  <a:pt x="11881" y="12030"/>
                </a:cubicBezTo>
                <a:cubicBezTo>
                  <a:pt x="11599" y="12206"/>
                  <a:pt x="11334" y="12424"/>
                  <a:pt x="11088" y="12650"/>
                </a:cubicBezTo>
                <a:cubicBezTo>
                  <a:pt x="10980" y="12749"/>
                  <a:pt x="10871" y="12847"/>
                  <a:pt x="10765" y="12948"/>
                </a:cubicBezTo>
                <a:cubicBezTo>
                  <a:pt x="10589" y="13116"/>
                  <a:pt x="10411" y="13268"/>
                  <a:pt x="10220" y="13419"/>
                </a:cubicBezTo>
                <a:cubicBezTo>
                  <a:pt x="10082" y="13528"/>
                  <a:pt x="9937" y="13630"/>
                  <a:pt x="9798" y="13742"/>
                </a:cubicBezTo>
                <a:cubicBezTo>
                  <a:pt x="9666" y="13849"/>
                  <a:pt x="9536" y="13958"/>
                  <a:pt x="9401" y="14064"/>
                </a:cubicBezTo>
                <a:cubicBezTo>
                  <a:pt x="9255" y="14178"/>
                  <a:pt x="9099" y="14273"/>
                  <a:pt x="8954" y="14387"/>
                </a:cubicBezTo>
                <a:cubicBezTo>
                  <a:pt x="8810" y="14501"/>
                  <a:pt x="8674" y="14618"/>
                  <a:pt x="8533" y="14734"/>
                </a:cubicBezTo>
                <a:cubicBezTo>
                  <a:pt x="8415" y="14832"/>
                  <a:pt x="8302" y="14934"/>
                  <a:pt x="8186" y="15032"/>
                </a:cubicBezTo>
                <a:cubicBezTo>
                  <a:pt x="8110" y="15097"/>
                  <a:pt x="7974" y="15177"/>
                  <a:pt x="7913" y="15255"/>
                </a:cubicBezTo>
                <a:cubicBezTo>
                  <a:pt x="7880" y="15298"/>
                  <a:pt x="7870" y="15340"/>
                  <a:pt x="7838" y="15379"/>
                </a:cubicBezTo>
                <a:cubicBezTo>
                  <a:pt x="7830" y="15389"/>
                  <a:pt x="7817" y="15424"/>
                  <a:pt x="7813" y="15429"/>
                </a:cubicBezTo>
                <a:cubicBezTo>
                  <a:pt x="7881" y="15385"/>
                  <a:pt x="7923" y="15379"/>
                  <a:pt x="7987" y="15329"/>
                </a:cubicBezTo>
                <a:cubicBezTo>
                  <a:pt x="8200" y="15162"/>
                  <a:pt x="8410" y="15007"/>
                  <a:pt x="8632" y="14858"/>
                </a:cubicBezTo>
                <a:cubicBezTo>
                  <a:pt x="8803" y="14744"/>
                  <a:pt x="8945" y="14615"/>
                  <a:pt x="9103" y="14486"/>
                </a:cubicBezTo>
                <a:cubicBezTo>
                  <a:pt x="9388" y="14253"/>
                  <a:pt x="9709" y="14068"/>
                  <a:pt x="9996" y="13841"/>
                </a:cubicBezTo>
                <a:cubicBezTo>
                  <a:pt x="10170" y="13704"/>
                  <a:pt x="10323" y="13537"/>
                  <a:pt x="10492" y="13395"/>
                </a:cubicBezTo>
                <a:cubicBezTo>
                  <a:pt x="10776" y="13157"/>
                  <a:pt x="11074" y="12967"/>
                  <a:pt x="11385" y="12774"/>
                </a:cubicBezTo>
                <a:cubicBezTo>
                  <a:pt x="11427" y="12748"/>
                  <a:pt x="11487" y="12689"/>
                  <a:pt x="11509" y="12675"/>
                </a:cubicBezTo>
                <a:cubicBezTo>
                  <a:pt x="11525" y="12665"/>
                  <a:pt x="11553" y="12654"/>
                  <a:pt x="11559" y="12650"/>
                </a:cubicBezTo>
              </a:path>
              <a:path w="11436" h="8558">
                <a:moveTo>
                  <a:pt x="14560" y="10319"/>
                </a:moveTo>
                <a:cubicBezTo>
                  <a:pt x="14482" y="10345"/>
                  <a:pt x="14484" y="10303"/>
                  <a:pt x="14412" y="10344"/>
                </a:cubicBezTo>
                <a:cubicBezTo>
                  <a:pt x="14262" y="10429"/>
                  <a:pt x="14112" y="10529"/>
                  <a:pt x="13965" y="10616"/>
                </a:cubicBezTo>
                <a:cubicBezTo>
                  <a:pt x="13814" y="10705"/>
                  <a:pt x="13664" y="10792"/>
                  <a:pt x="13519" y="10889"/>
                </a:cubicBezTo>
                <a:cubicBezTo>
                  <a:pt x="13342" y="11007"/>
                  <a:pt x="13208" y="11165"/>
                  <a:pt x="13047" y="11311"/>
                </a:cubicBezTo>
                <a:cubicBezTo>
                  <a:pt x="12912" y="11433"/>
                  <a:pt x="12780" y="11555"/>
                  <a:pt x="12650" y="11683"/>
                </a:cubicBezTo>
                <a:cubicBezTo>
                  <a:pt x="12521" y="11810"/>
                  <a:pt x="12404" y="11899"/>
                  <a:pt x="12254" y="12005"/>
                </a:cubicBezTo>
                <a:cubicBezTo>
                  <a:pt x="11999" y="12185"/>
                  <a:pt x="11730" y="12359"/>
                  <a:pt x="11485" y="12551"/>
                </a:cubicBezTo>
                <a:cubicBezTo>
                  <a:pt x="11333" y="12670"/>
                  <a:pt x="11207" y="12753"/>
                  <a:pt x="11038" y="12849"/>
                </a:cubicBezTo>
                <a:cubicBezTo>
                  <a:pt x="10883" y="12937"/>
                  <a:pt x="10758" y="13015"/>
                  <a:pt x="10616" y="13122"/>
                </a:cubicBezTo>
                <a:cubicBezTo>
                  <a:pt x="10442" y="13254"/>
                  <a:pt x="10272" y="13390"/>
                  <a:pt x="10096" y="13519"/>
                </a:cubicBezTo>
                <a:cubicBezTo>
                  <a:pt x="9957" y="13621"/>
                  <a:pt x="9828" y="13740"/>
                  <a:pt x="9699" y="13841"/>
                </a:cubicBezTo>
                <a:cubicBezTo>
                  <a:pt x="9584" y="13931"/>
                  <a:pt x="9481" y="14012"/>
                  <a:pt x="9376" y="14114"/>
                </a:cubicBezTo>
                <a:cubicBezTo>
                  <a:pt x="9257" y="14230"/>
                  <a:pt x="9143" y="14320"/>
                  <a:pt x="9004" y="14412"/>
                </a:cubicBezTo>
                <a:cubicBezTo>
                  <a:pt x="8879" y="14495"/>
                  <a:pt x="8773" y="14557"/>
                  <a:pt x="8657" y="14660"/>
                </a:cubicBezTo>
                <a:cubicBezTo>
                  <a:pt x="8522" y="14780"/>
                  <a:pt x="8436" y="14923"/>
                  <a:pt x="8310" y="15056"/>
                </a:cubicBezTo>
                <a:cubicBezTo>
                  <a:pt x="8246" y="15123"/>
                  <a:pt x="8168" y="15227"/>
                  <a:pt x="8111" y="15280"/>
                </a:cubicBezTo>
                <a:cubicBezTo>
                  <a:pt x="8083" y="15280"/>
                  <a:pt x="8073" y="15282"/>
                  <a:pt x="8062" y="15304"/>
                </a:cubicBezTo>
                <a:cubicBezTo>
                  <a:pt x="8150" y="15216"/>
                  <a:pt x="8256" y="15094"/>
                  <a:pt x="8359" y="15007"/>
                </a:cubicBezTo>
                <a:cubicBezTo>
                  <a:pt x="8831" y="14610"/>
                  <a:pt x="9257" y="14182"/>
                  <a:pt x="9773" y="13841"/>
                </a:cubicBezTo>
                <a:cubicBezTo>
                  <a:pt x="9955" y="13720"/>
                  <a:pt x="10163" y="13639"/>
                  <a:pt x="10344" y="13519"/>
                </a:cubicBezTo>
                <a:cubicBezTo>
                  <a:pt x="10657" y="13310"/>
                  <a:pt x="10953" y="13062"/>
                  <a:pt x="11261" y="12849"/>
                </a:cubicBezTo>
                <a:cubicBezTo>
                  <a:pt x="11407" y="12748"/>
                  <a:pt x="11515" y="12650"/>
                  <a:pt x="11633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Practice:  Name and Classify the Following Angle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4496040" cy="2590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0" y="210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350" y="5854"/>
                </a:moveTo>
                <a:lnTo>
                  <a:pt x="6350" y="5854"/>
                </a:lnTo>
                <a:lnTo>
                  <a:pt x="6350" y="5854"/>
                </a:lnTo>
              </a:path>
              <a:path w="1" h="1">
                <a:moveTo>
                  <a:pt x="6350" y="5854"/>
                </a:moveTo>
                <a:lnTo>
                  <a:pt x="6350" y="585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4800" y="2017800"/>
            <a:ext cx="750960" cy="598320"/>
          </a:xfrm>
          <a:custGeom>
            <a:avLst/>
            <a:gdLst/>
            <a:ahLst/>
            <a:rect l="l" t="t" r="r" b="b"/>
            <a:pathLst>
              <a:path w="2085" h="1663">
                <a:moveTo>
                  <a:pt x="5680" y="6077"/>
                </a:moveTo>
                <a:cubicBezTo>
                  <a:pt x="5680" y="6205"/>
                  <a:pt x="5715" y="6318"/>
                  <a:pt x="5705" y="6449"/>
                </a:cubicBezTo>
                <a:cubicBezTo>
                  <a:pt x="5683" y="6556"/>
                  <a:pt x="5675" y="6580"/>
                  <a:pt x="5680" y="6648"/>
                </a:cubicBezTo>
                <a:cubicBezTo>
                  <a:pt x="5680" y="6505"/>
                  <a:pt x="5670" y="6365"/>
                  <a:pt x="5705" y="6226"/>
                </a:cubicBezTo>
                <a:cubicBezTo>
                  <a:pt x="5737" y="6100"/>
                  <a:pt x="5860" y="6043"/>
                  <a:pt x="5978" y="6028"/>
                </a:cubicBezTo>
                <a:cubicBezTo>
                  <a:pt x="6025" y="6022"/>
                  <a:pt x="6090" y="6017"/>
                  <a:pt x="6102" y="6052"/>
                </a:cubicBezTo>
              </a:path>
              <a:path w="2085" h="1663">
                <a:moveTo>
                  <a:pt x="6375" y="6201"/>
                </a:moveTo>
                <a:cubicBezTo>
                  <a:pt x="6364" y="6322"/>
                  <a:pt x="6407" y="6691"/>
                  <a:pt x="6325" y="6772"/>
                </a:cubicBezTo>
                <a:cubicBezTo>
                  <a:pt x="6325" y="6764"/>
                  <a:pt x="6325" y="6755"/>
                  <a:pt x="6325" y="6747"/>
                </a:cubicBezTo>
              </a:path>
              <a:path w="2085" h="1663">
                <a:moveTo>
                  <a:pt x="6970" y="6474"/>
                </a:moveTo>
                <a:cubicBezTo>
                  <a:pt x="6927" y="6387"/>
                  <a:pt x="6920" y="6363"/>
                  <a:pt x="6871" y="6325"/>
                </a:cubicBezTo>
                <a:cubicBezTo>
                  <a:pt x="6671" y="6443"/>
                  <a:pt x="6598" y="6562"/>
                  <a:pt x="6598" y="6796"/>
                </a:cubicBezTo>
                <a:cubicBezTo>
                  <a:pt x="6833" y="6797"/>
                  <a:pt x="6830" y="6669"/>
                  <a:pt x="6846" y="6449"/>
                </a:cubicBezTo>
                <a:cubicBezTo>
                  <a:pt x="6846" y="6424"/>
                  <a:pt x="6846" y="6416"/>
                  <a:pt x="6846" y="6449"/>
                </a:cubicBezTo>
                <a:cubicBezTo>
                  <a:pt x="6866" y="6686"/>
                  <a:pt x="6893" y="6931"/>
                  <a:pt x="6871" y="7169"/>
                </a:cubicBezTo>
                <a:cubicBezTo>
                  <a:pt x="6849" y="7404"/>
                  <a:pt x="6883" y="7120"/>
                  <a:pt x="6896" y="7045"/>
                </a:cubicBezTo>
              </a:path>
              <a:path w="2085" h="1663">
                <a:moveTo>
                  <a:pt x="7020" y="5755"/>
                </a:moveTo>
                <a:cubicBezTo>
                  <a:pt x="7052" y="6063"/>
                  <a:pt x="7069" y="6363"/>
                  <a:pt x="7069" y="6672"/>
                </a:cubicBezTo>
                <a:cubicBezTo>
                  <a:pt x="7069" y="6648"/>
                  <a:pt x="7069" y="6639"/>
                  <a:pt x="7069" y="6623"/>
                </a:cubicBezTo>
                <a:cubicBezTo>
                  <a:pt x="7073" y="6504"/>
                  <a:pt x="7035" y="6195"/>
                  <a:pt x="7193" y="6127"/>
                </a:cubicBezTo>
                <a:cubicBezTo>
                  <a:pt x="7218" y="6127"/>
                  <a:pt x="7243" y="6127"/>
                  <a:pt x="7268" y="6127"/>
                </a:cubicBezTo>
                <a:cubicBezTo>
                  <a:pt x="7370" y="6321"/>
                  <a:pt x="7367" y="6474"/>
                  <a:pt x="7367" y="6697"/>
                </a:cubicBezTo>
                <a:cubicBezTo>
                  <a:pt x="7367" y="6714"/>
                  <a:pt x="7367" y="6730"/>
                  <a:pt x="7367" y="6747"/>
                </a:cubicBezTo>
              </a:path>
              <a:path w="2085" h="1663">
                <a:moveTo>
                  <a:pt x="7541" y="5606"/>
                </a:moveTo>
                <a:cubicBezTo>
                  <a:pt x="7558" y="5838"/>
                  <a:pt x="7565" y="6066"/>
                  <a:pt x="7565" y="6300"/>
                </a:cubicBezTo>
                <a:cubicBezTo>
                  <a:pt x="7565" y="6446"/>
                  <a:pt x="7528" y="6607"/>
                  <a:pt x="7689" y="6623"/>
                </a:cubicBezTo>
                <a:cubicBezTo>
                  <a:pt x="7731" y="6623"/>
                  <a:pt x="7739" y="6623"/>
                  <a:pt x="7764" y="6623"/>
                </a:cubicBezTo>
              </a:path>
              <a:path w="2085" h="1663">
                <a:moveTo>
                  <a:pt x="7317" y="6201"/>
                </a:moveTo>
                <a:cubicBezTo>
                  <a:pt x="7436" y="6155"/>
                  <a:pt x="7634" y="6068"/>
                  <a:pt x="7764" y="6077"/>
                </a:cubicBezTo>
                <a:cubicBezTo>
                  <a:pt x="7764" y="6085"/>
                  <a:pt x="7764" y="6094"/>
                  <a:pt x="7764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1963800"/>
            <a:ext cx="411120" cy="447480"/>
          </a:xfrm>
          <a:custGeom>
            <a:avLst/>
            <a:gdLst/>
            <a:ahLst/>
            <a:rect l="l" t="t" r="r" b="b"/>
            <a:pathLst>
              <a:path w="1142" h="1241">
                <a:moveTo>
                  <a:pt x="9029" y="5928"/>
                </a:moveTo>
                <a:cubicBezTo>
                  <a:pt x="8974" y="5802"/>
                  <a:pt x="8953" y="5771"/>
                  <a:pt x="8830" y="5705"/>
                </a:cubicBezTo>
                <a:cubicBezTo>
                  <a:pt x="8797" y="5759"/>
                  <a:pt x="8528" y="6335"/>
                  <a:pt x="8830" y="6176"/>
                </a:cubicBezTo>
                <a:cubicBezTo>
                  <a:pt x="8944" y="6034"/>
                  <a:pt x="8983" y="5970"/>
                  <a:pt x="8979" y="5829"/>
                </a:cubicBezTo>
                <a:cubicBezTo>
                  <a:pt x="8979" y="5796"/>
                  <a:pt x="8979" y="5763"/>
                  <a:pt x="8979" y="5730"/>
                </a:cubicBezTo>
                <a:cubicBezTo>
                  <a:pt x="8979" y="5970"/>
                  <a:pt x="9032" y="6210"/>
                  <a:pt x="9029" y="6449"/>
                </a:cubicBezTo>
                <a:cubicBezTo>
                  <a:pt x="9028" y="6568"/>
                  <a:pt x="8980" y="6715"/>
                  <a:pt x="9004" y="6598"/>
                </a:cubicBezTo>
              </a:path>
              <a:path w="1142" h="1241">
                <a:moveTo>
                  <a:pt x="9401" y="5779"/>
                </a:moveTo>
                <a:cubicBezTo>
                  <a:pt x="9290" y="5803"/>
                  <a:pt x="9211" y="6182"/>
                  <a:pt x="9203" y="6325"/>
                </a:cubicBezTo>
                <a:cubicBezTo>
                  <a:pt x="9225" y="6461"/>
                  <a:pt x="9221" y="6505"/>
                  <a:pt x="9327" y="6524"/>
                </a:cubicBezTo>
                <a:cubicBezTo>
                  <a:pt x="9522" y="6339"/>
                  <a:pt x="9584" y="6211"/>
                  <a:pt x="9451" y="5953"/>
                </a:cubicBezTo>
                <a:cubicBezTo>
                  <a:pt x="9407" y="5888"/>
                  <a:pt x="9401" y="5869"/>
                  <a:pt x="9351" y="5854"/>
                </a:cubicBezTo>
              </a:path>
              <a:path w="1142" h="1241">
                <a:moveTo>
                  <a:pt x="9798" y="5482"/>
                </a:moveTo>
                <a:cubicBezTo>
                  <a:pt x="9688" y="5551"/>
                  <a:pt x="9699" y="5637"/>
                  <a:pt x="9699" y="5779"/>
                </a:cubicBezTo>
                <a:cubicBezTo>
                  <a:pt x="9752" y="5706"/>
                  <a:pt x="9926" y="5506"/>
                  <a:pt x="9748" y="5457"/>
                </a:cubicBezTo>
                <a:cubicBezTo>
                  <a:pt x="9723" y="5457"/>
                  <a:pt x="9699" y="5457"/>
                  <a:pt x="9674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0960" y="2438280"/>
            <a:ext cx="6688080" cy="2411640"/>
          </a:xfrm>
          <a:custGeom>
            <a:avLst/>
            <a:gdLst/>
            <a:ahLst/>
            <a:rect l="l" t="t" r="r" b="b"/>
            <a:pathLst>
              <a:path w="18579" h="6698">
                <a:moveTo>
                  <a:pt x="2257" y="6846"/>
                </a:moveTo>
                <a:cubicBezTo>
                  <a:pt x="2306" y="6830"/>
                  <a:pt x="2323" y="6824"/>
                  <a:pt x="2381" y="6821"/>
                </a:cubicBezTo>
                <a:cubicBezTo>
                  <a:pt x="2460" y="6817"/>
                  <a:pt x="2538" y="6806"/>
                  <a:pt x="2604" y="6796"/>
                </a:cubicBezTo>
                <a:cubicBezTo>
                  <a:pt x="2984" y="6739"/>
                  <a:pt x="3402" y="6843"/>
                  <a:pt x="3770" y="6772"/>
                </a:cubicBezTo>
                <a:cubicBezTo>
                  <a:pt x="3817" y="6763"/>
                  <a:pt x="3871" y="6772"/>
                  <a:pt x="3919" y="6772"/>
                </a:cubicBezTo>
              </a:path>
              <a:path w="18579" h="6698">
                <a:moveTo>
                  <a:pt x="12154" y="12849"/>
                </a:moveTo>
                <a:cubicBezTo>
                  <a:pt x="12146" y="12849"/>
                  <a:pt x="12137" y="12849"/>
                  <a:pt x="12129" y="12849"/>
                </a:cubicBezTo>
              </a:path>
              <a:path w="18579" h="6698">
                <a:moveTo>
                  <a:pt x="12154" y="12849"/>
                </a:moveTo>
                <a:lnTo>
                  <a:pt x="12154" y="12849"/>
                </a:lnTo>
              </a:path>
              <a:path w="18579" h="6698">
                <a:moveTo>
                  <a:pt x="2084" y="8607"/>
                </a:moveTo>
                <a:cubicBezTo>
                  <a:pt x="2177" y="8586"/>
                  <a:pt x="2286" y="8543"/>
                  <a:pt x="2381" y="8533"/>
                </a:cubicBezTo>
                <a:cubicBezTo>
                  <a:pt x="2544" y="8517"/>
                  <a:pt x="2715" y="8521"/>
                  <a:pt x="2877" y="8508"/>
                </a:cubicBezTo>
                <a:cubicBezTo>
                  <a:pt x="2993" y="8499"/>
                  <a:pt x="3110" y="8487"/>
                  <a:pt x="3225" y="8483"/>
                </a:cubicBezTo>
                <a:cubicBezTo>
                  <a:pt x="3360" y="8479"/>
                  <a:pt x="3487" y="8462"/>
                  <a:pt x="3621" y="8458"/>
                </a:cubicBezTo>
                <a:cubicBezTo>
                  <a:pt x="3726" y="8455"/>
                  <a:pt x="3866" y="8455"/>
                  <a:pt x="3969" y="8434"/>
                </a:cubicBezTo>
                <a:cubicBezTo>
                  <a:pt x="4008" y="8426"/>
                  <a:pt x="4024" y="8413"/>
                  <a:pt x="4068" y="8409"/>
                </a:cubicBezTo>
                <a:cubicBezTo>
                  <a:pt x="4076" y="8409"/>
                  <a:pt x="4085" y="8409"/>
                  <a:pt x="4093" y="8409"/>
                </a:cubicBezTo>
              </a:path>
              <a:path w="18579" h="6698">
                <a:moveTo>
                  <a:pt x="2084" y="10468"/>
                </a:moveTo>
                <a:cubicBezTo>
                  <a:pt x="2105" y="10455"/>
                  <a:pt x="2118" y="10457"/>
                  <a:pt x="2158" y="10443"/>
                </a:cubicBezTo>
                <a:cubicBezTo>
                  <a:pt x="2254" y="10409"/>
                  <a:pt x="2285" y="10458"/>
                  <a:pt x="2381" y="10443"/>
                </a:cubicBezTo>
                <a:cubicBezTo>
                  <a:pt x="2474" y="10429"/>
                  <a:pt x="2588" y="10439"/>
                  <a:pt x="2679" y="10418"/>
                </a:cubicBezTo>
                <a:cubicBezTo>
                  <a:pt x="2757" y="10400"/>
                  <a:pt x="2815" y="10393"/>
                  <a:pt x="2902" y="10393"/>
                </a:cubicBezTo>
                <a:cubicBezTo>
                  <a:pt x="3111" y="10393"/>
                  <a:pt x="3322" y="10386"/>
                  <a:pt x="3522" y="10418"/>
                </a:cubicBezTo>
                <a:cubicBezTo>
                  <a:pt x="3620" y="10434"/>
                  <a:pt x="3733" y="10427"/>
                  <a:pt x="3820" y="10443"/>
                </a:cubicBezTo>
                <a:cubicBezTo>
                  <a:pt x="3898" y="10458"/>
                  <a:pt x="3949" y="10430"/>
                  <a:pt x="4018" y="10418"/>
                </a:cubicBezTo>
                <a:cubicBezTo>
                  <a:pt x="4064" y="10410"/>
                  <a:pt x="4056" y="10439"/>
                  <a:pt x="4068" y="10443"/>
                </a:cubicBezTo>
              </a:path>
              <a:path w="18579" h="6698">
                <a:moveTo>
                  <a:pt x="2183" y="12303"/>
                </a:moveTo>
                <a:cubicBezTo>
                  <a:pt x="2302" y="12303"/>
                  <a:pt x="2415" y="12289"/>
                  <a:pt x="2530" y="12278"/>
                </a:cubicBezTo>
                <a:cubicBezTo>
                  <a:pt x="2644" y="12268"/>
                  <a:pt x="2766" y="12263"/>
                  <a:pt x="2877" y="12254"/>
                </a:cubicBezTo>
                <a:cubicBezTo>
                  <a:pt x="3026" y="12243"/>
                  <a:pt x="3176" y="12253"/>
                  <a:pt x="3324" y="12229"/>
                </a:cubicBezTo>
                <a:cubicBezTo>
                  <a:pt x="3444" y="12209"/>
                  <a:pt x="3548" y="12204"/>
                  <a:pt x="3671" y="12204"/>
                </a:cubicBezTo>
                <a:cubicBezTo>
                  <a:pt x="3824" y="12204"/>
                  <a:pt x="3969" y="12192"/>
                  <a:pt x="4118" y="12179"/>
                </a:cubicBezTo>
                <a:cubicBezTo>
                  <a:pt x="4216" y="12171"/>
                  <a:pt x="4317" y="12179"/>
                  <a:pt x="4415" y="12179"/>
                </a:cubicBezTo>
              </a:path>
              <a:path w="18579" h="6698">
                <a:moveTo>
                  <a:pt x="20662" y="12898"/>
                </a:moveTo>
                <a:lnTo>
                  <a:pt x="20662" y="12898"/>
                </a:lnTo>
              </a:path>
              <a:path w="18579" h="6698">
                <a:moveTo>
                  <a:pt x="6796" y="13271"/>
                </a:moveTo>
                <a:cubicBezTo>
                  <a:pt x="6796" y="13206"/>
                  <a:pt x="6830" y="13218"/>
                  <a:pt x="6921" y="13320"/>
                </a:cubicBezTo>
              </a:path>
              <a:path w="18579" h="6698">
                <a:moveTo>
                  <a:pt x="7615" y="13469"/>
                </a:moveTo>
                <a:cubicBezTo>
                  <a:pt x="7765" y="13419"/>
                  <a:pt x="7912" y="13399"/>
                  <a:pt x="8062" y="13370"/>
                </a:cubicBezTo>
                <a:cubicBezTo>
                  <a:pt x="8070" y="13370"/>
                  <a:pt x="8078" y="13370"/>
                  <a:pt x="8086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7800" y="3367080"/>
            <a:ext cx="3081240" cy="1339920"/>
          </a:xfrm>
          <a:custGeom>
            <a:avLst/>
            <a:gdLst/>
            <a:ahLst/>
            <a:rect l="l" t="t" r="r" b="b"/>
            <a:pathLst>
              <a:path w="8558" h="3722">
                <a:moveTo>
                  <a:pt x="12154" y="12849"/>
                </a:moveTo>
                <a:cubicBezTo>
                  <a:pt x="12205" y="12846"/>
                  <a:pt x="12265" y="12827"/>
                  <a:pt x="12303" y="12824"/>
                </a:cubicBezTo>
                <a:cubicBezTo>
                  <a:pt x="12353" y="12820"/>
                  <a:pt x="12414" y="12802"/>
                  <a:pt x="12452" y="12799"/>
                </a:cubicBezTo>
                <a:cubicBezTo>
                  <a:pt x="12531" y="12792"/>
                  <a:pt x="12627" y="12778"/>
                  <a:pt x="12700" y="12774"/>
                </a:cubicBezTo>
                <a:cubicBezTo>
                  <a:pt x="12851" y="12765"/>
                  <a:pt x="12997" y="12771"/>
                  <a:pt x="13146" y="12750"/>
                </a:cubicBezTo>
                <a:cubicBezTo>
                  <a:pt x="13213" y="12741"/>
                  <a:pt x="13278" y="12736"/>
                  <a:pt x="13345" y="12725"/>
                </a:cubicBezTo>
                <a:cubicBezTo>
                  <a:pt x="13427" y="12712"/>
                  <a:pt x="13510" y="12712"/>
                  <a:pt x="13593" y="12700"/>
                </a:cubicBezTo>
                <a:cubicBezTo>
                  <a:pt x="13690" y="12686"/>
                  <a:pt x="13795" y="12658"/>
                  <a:pt x="13891" y="12650"/>
                </a:cubicBezTo>
                <a:cubicBezTo>
                  <a:pt x="14067" y="12636"/>
                  <a:pt x="14240" y="12666"/>
                  <a:pt x="14412" y="12675"/>
                </a:cubicBezTo>
                <a:cubicBezTo>
                  <a:pt x="14579" y="12684"/>
                  <a:pt x="14743" y="12691"/>
                  <a:pt x="14908" y="12700"/>
                </a:cubicBezTo>
                <a:cubicBezTo>
                  <a:pt x="15187" y="12716"/>
                  <a:pt x="15471" y="12700"/>
                  <a:pt x="15751" y="12700"/>
                </a:cubicBezTo>
                <a:cubicBezTo>
                  <a:pt x="15732" y="12653"/>
                  <a:pt x="15720" y="12594"/>
                  <a:pt x="15701" y="12551"/>
                </a:cubicBezTo>
                <a:cubicBezTo>
                  <a:pt x="15675" y="12492"/>
                  <a:pt x="15666" y="12461"/>
                  <a:pt x="15652" y="12402"/>
                </a:cubicBezTo>
                <a:cubicBezTo>
                  <a:pt x="15638" y="12342"/>
                  <a:pt x="15639" y="12294"/>
                  <a:pt x="15627" y="12229"/>
                </a:cubicBezTo>
                <a:cubicBezTo>
                  <a:pt x="15616" y="12170"/>
                  <a:pt x="15599" y="12117"/>
                  <a:pt x="15602" y="12055"/>
                </a:cubicBezTo>
                <a:cubicBezTo>
                  <a:pt x="15605" y="11982"/>
                  <a:pt x="15639" y="11883"/>
                  <a:pt x="15652" y="11807"/>
                </a:cubicBezTo>
                <a:cubicBezTo>
                  <a:pt x="15670" y="11697"/>
                  <a:pt x="15693" y="11572"/>
                  <a:pt x="15701" y="11460"/>
                </a:cubicBezTo>
                <a:cubicBezTo>
                  <a:pt x="15712" y="11310"/>
                  <a:pt x="15704" y="11162"/>
                  <a:pt x="15726" y="11013"/>
                </a:cubicBezTo>
                <a:cubicBezTo>
                  <a:pt x="15749" y="10859"/>
                  <a:pt x="15789" y="10696"/>
                  <a:pt x="15801" y="10542"/>
                </a:cubicBezTo>
                <a:cubicBezTo>
                  <a:pt x="15811" y="10416"/>
                  <a:pt x="15808" y="10294"/>
                  <a:pt x="15825" y="10170"/>
                </a:cubicBezTo>
                <a:cubicBezTo>
                  <a:pt x="15840" y="10062"/>
                  <a:pt x="15869" y="9957"/>
                  <a:pt x="15875" y="9847"/>
                </a:cubicBezTo>
                <a:cubicBezTo>
                  <a:pt x="15882" y="9719"/>
                  <a:pt x="15857" y="9593"/>
                  <a:pt x="15850" y="9475"/>
                </a:cubicBezTo>
                <a:cubicBezTo>
                  <a:pt x="15847" y="9434"/>
                  <a:pt x="15852" y="9392"/>
                  <a:pt x="15850" y="9351"/>
                </a:cubicBezTo>
              </a:path>
              <a:path w="8558" h="3722">
                <a:moveTo>
                  <a:pt x="12353" y="12700"/>
                </a:moveTo>
                <a:cubicBezTo>
                  <a:pt x="12325" y="12700"/>
                  <a:pt x="12314" y="12702"/>
                  <a:pt x="12303" y="12725"/>
                </a:cubicBezTo>
                <a:cubicBezTo>
                  <a:pt x="12391" y="12738"/>
                  <a:pt x="12497" y="12758"/>
                  <a:pt x="12601" y="12750"/>
                </a:cubicBezTo>
                <a:cubicBezTo>
                  <a:pt x="12735" y="12740"/>
                  <a:pt x="12842" y="12756"/>
                  <a:pt x="12973" y="12750"/>
                </a:cubicBezTo>
                <a:cubicBezTo>
                  <a:pt x="13074" y="12745"/>
                  <a:pt x="13169" y="12727"/>
                  <a:pt x="13271" y="12725"/>
                </a:cubicBezTo>
                <a:cubicBezTo>
                  <a:pt x="13537" y="12720"/>
                  <a:pt x="13800" y="12705"/>
                  <a:pt x="14064" y="12700"/>
                </a:cubicBezTo>
                <a:cubicBezTo>
                  <a:pt x="14313" y="12696"/>
                  <a:pt x="14563" y="12686"/>
                  <a:pt x="14808" y="12675"/>
                </a:cubicBezTo>
                <a:cubicBezTo>
                  <a:pt x="14912" y="12670"/>
                  <a:pt x="15012" y="12694"/>
                  <a:pt x="15106" y="12700"/>
                </a:cubicBezTo>
                <a:cubicBezTo>
                  <a:pt x="15198" y="12706"/>
                  <a:pt x="15272" y="12681"/>
                  <a:pt x="15354" y="12675"/>
                </a:cubicBezTo>
                <a:cubicBezTo>
                  <a:pt x="15473" y="12667"/>
                  <a:pt x="15650" y="12690"/>
                  <a:pt x="15726" y="12700"/>
                </a:cubicBezTo>
                <a:cubicBezTo>
                  <a:pt x="15734" y="12700"/>
                  <a:pt x="15743" y="12700"/>
                  <a:pt x="15751" y="12700"/>
                </a:cubicBezTo>
                <a:cubicBezTo>
                  <a:pt x="15725" y="12667"/>
                  <a:pt x="15683" y="12615"/>
                  <a:pt x="15652" y="12576"/>
                </a:cubicBezTo>
                <a:cubicBezTo>
                  <a:pt x="15600" y="12511"/>
                  <a:pt x="15599" y="12495"/>
                  <a:pt x="15577" y="12427"/>
                </a:cubicBezTo>
                <a:cubicBezTo>
                  <a:pt x="15553" y="12355"/>
                  <a:pt x="15555" y="12308"/>
                  <a:pt x="15553" y="12229"/>
                </a:cubicBezTo>
                <a:cubicBezTo>
                  <a:pt x="15550" y="12107"/>
                  <a:pt x="15570" y="11999"/>
                  <a:pt x="15577" y="11881"/>
                </a:cubicBezTo>
                <a:cubicBezTo>
                  <a:pt x="15583" y="11779"/>
                  <a:pt x="15584" y="11683"/>
                  <a:pt x="15602" y="11584"/>
                </a:cubicBezTo>
                <a:cubicBezTo>
                  <a:pt x="15617" y="11502"/>
                  <a:pt x="15658" y="11420"/>
                  <a:pt x="15677" y="11336"/>
                </a:cubicBezTo>
                <a:cubicBezTo>
                  <a:pt x="15695" y="11257"/>
                  <a:pt x="15721" y="11140"/>
                  <a:pt x="15726" y="11063"/>
                </a:cubicBezTo>
                <a:cubicBezTo>
                  <a:pt x="15734" y="10953"/>
                  <a:pt x="15733" y="10849"/>
                  <a:pt x="15751" y="10740"/>
                </a:cubicBezTo>
                <a:cubicBezTo>
                  <a:pt x="15765" y="10659"/>
                  <a:pt x="15795" y="10578"/>
                  <a:pt x="15801" y="10492"/>
                </a:cubicBezTo>
                <a:cubicBezTo>
                  <a:pt x="15807" y="10413"/>
                  <a:pt x="15828" y="10317"/>
                  <a:pt x="15825" y="10244"/>
                </a:cubicBezTo>
                <a:cubicBezTo>
                  <a:pt x="15821" y="10133"/>
                  <a:pt x="15825" y="9959"/>
                  <a:pt x="15801" y="9847"/>
                </a:cubicBezTo>
                <a:cubicBezTo>
                  <a:pt x="15792" y="9804"/>
                  <a:pt x="15756" y="9752"/>
                  <a:pt x="15751" y="9699"/>
                </a:cubicBezTo>
                <a:cubicBezTo>
                  <a:pt x="15743" y="9613"/>
                  <a:pt x="15743" y="9537"/>
                  <a:pt x="15726" y="9451"/>
                </a:cubicBezTo>
                <a:cubicBezTo>
                  <a:pt x="15717" y="9407"/>
                  <a:pt x="15746" y="9391"/>
                  <a:pt x="15726" y="9351"/>
                </a:cubicBezTo>
                <a:cubicBezTo>
                  <a:pt x="15718" y="9359"/>
                  <a:pt x="15709" y="9368"/>
                  <a:pt x="15701" y="9376"/>
                </a:cubicBezTo>
              </a:path>
              <a:path w="8558" h="3722">
                <a:moveTo>
                  <a:pt x="15751" y="9451"/>
                </a:moveTo>
                <a:cubicBezTo>
                  <a:pt x="15744" y="9512"/>
                  <a:pt x="15740" y="9539"/>
                  <a:pt x="15726" y="9599"/>
                </a:cubicBezTo>
                <a:cubicBezTo>
                  <a:pt x="15716" y="9643"/>
                  <a:pt x="15715" y="9680"/>
                  <a:pt x="15701" y="9723"/>
                </a:cubicBezTo>
                <a:cubicBezTo>
                  <a:pt x="15684" y="9775"/>
                  <a:pt x="15664" y="9820"/>
                  <a:pt x="15652" y="9872"/>
                </a:cubicBezTo>
                <a:cubicBezTo>
                  <a:pt x="15635" y="9948"/>
                  <a:pt x="15638" y="10017"/>
                  <a:pt x="15627" y="10096"/>
                </a:cubicBezTo>
                <a:cubicBezTo>
                  <a:pt x="15621" y="10141"/>
                  <a:pt x="15587" y="10216"/>
                  <a:pt x="15577" y="10269"/>
                </a:cubicBezTo>
                <a:cubicBezTo>
                  <a:pt x="15567" y="10323"/>
                  <a:pt x="15562" y="10370"/>
                  <a:pt x="15553" y="10418"/>
                </a:cubicBezTo>
                <a:cubicBezTo>
                  <a:pt x="15541" y="10484"/>
                  <a:pt x="15534" y="10548"/>
                  <a:pt x="15528" y="10616"/>
                </a:cubicBezTo>
                <a:cubicBezTo>
                  <a:pt x="15521" y="10703"/>
                  <a:pt x="15515" y="10779"/>
                  <a:pt x="15503" y="10864"/>
                </a:cubicBezTo>
                <a:cubicBezTo>
                  <a:pt x="15491" y="10945"/>
                  <a:pt x="15483" y="11031"/>
                  <a:pt x="15478" y="11112"/>
                </a:cubicBezTo>
                <a:cubicBezTo>
                  <a:pt x="15468" y="11273"/>
                  <a:pt x="15494" y="11433"/>
                  <a:pt x="15503" y="11584"/>
                </a:cubicBezTo>
                <a:cubicBezTo>
                  <a:pt x="15509" y="11683"/>
                  <a:pt x="15484" y="11762"/>
                  <a:pt x="15478" y="11857"/>
                </a:cubicBezTo>
                <a:cubicBezTo>
                  <a:pt x="15472" y="11942"/>
                  <a:pt x="15498" y="12000"/>
                  <a:pt x="15503" y="12080"/>
                </a:cubicBezTo>
                <a:cubicBezTo>
                  <a:pt x="15512" y="12225"/>
                  <a:pt x="15492" y="12364"/>
                  <a:pt x="15528" y="12502"/>
                </a:cubicBezTo>
                <a:cubicBezTo>
                  <a:pt x="15541" y="12550"/>
                  <a:pt x="15563" y="12576"/>
                  <a:pt x="15577" y="12626"/>
                </a:cubicBezTo>
                <a:cubicBezTo>
                  <a:pt x="15591" y="12674"/>
                  <a:pt x="15592" y="12729"/>
                  <a:pt x="15602" y="12774"/>
                </a:cubicBezTo>
                <a:cubicBezTo>
                  <a:pt x="15657" y="12747"/>
                  <a:pt x="15654" y="12774"/>
                  <a:pt x="15726" y="12725"/>
                </a:cubicBezTo>
                <a:cubicBezTo>
                  <a:pt x="15785" y="12685"/>
                  <a:pt x="15835" y="12634"/>
                  <a:pt x="15900" y="12601"/>
                </a:cubicBezTo>
                <a:cubicBezTo>
                  <a:pt x="15940" y="12580"/>
                  <a:pt x="15981" y="12577"/>
                  <a:pt x="16024" y="12551"/>
                </a:cubicBezTo>
                <a:cubicBezTo>
                  <a:pt x="16040" y="12541"/>
                  <a:pt x="16093" y="12496"/>
                  <a:pt x="16123" y="12477"/>
                </a:cubicBezTo>
                <a:cubicBezTo>
                  <a:pt x="16180" y="12440"/>
                  <a:pt x="16214" y="12385"/>
                  <a:pt x="16272" y="12353"/>
                </a:cubicBezTo>
                <a:cubicBezTo>
                  <a:pt x="16330" y="12321"/>
                  <a:pt x="16390" y="12309"/>
                  <a:pt x="16446" y="12278"/>
                </a:cubicBezTo>
                <a:cubicBezTo>
                  <a:pt x="16509" y="12244"/>
                  <a:pt x="16538" y="12214"/>
                  <a:pt x="16594" y="12179"/>
                </a:cubicBezTo>
                <a:cubicBezTo>
                  <a:pt x="16652" y="12143"/>
                  <a:pt x="16707" y="12115"/>
                  <a:pt x="16768" y="12080"/>
                </a:cubicBezTo>
                <a:cubicBezTo>
                  <a:pt x="16927" y="11990"/>
                  <a:pt x="17085" y="11897"/>
                  <a:pt x="17239" y="11807"/>
                </a:cubicBezTo>
                <a:cubicBezTo>
                  <a:pt x="17295" y="11774"/>
                  <a:pt x="17359" y="11759"/>
                  <a:pt x="17413" y="11733"/>
                </a:cubicBezTo>
                <a:cubicBezTo>
                  <a:pt x="17504" y="11689"/>
                  <a:pt x="17576" y="11632"/>
                  <a:pt x="17661" y="11584"/>
                </a:cubicBezTo>
                <a:cubicBezTo>
                  <a:pt x="17740" y="11540"/>
                  <a:pt x="17829" y="11506"/>
                  <a:pt x="17909" y="11460"/>
                </a:cubicBezTo>
                <a:cubicBezTo>
                  <a:pt x="17988" y="11415"/>
                  <a:pt x="18056" y="11360"/>
                  <a:pt x="18132" y="11311"/>
                </a:cubicBezTo>
                <a:cubicBezTo>
                  <a:pt x="18220" y="11254"/>
                  <a:pt x="18310" y="11191"/>
                  <a:pt x="18405" y="11137"/>
                </a:cubicBezTo>
                <a:cubicBezTo>
                  <a:pt x="18457" y="11107"/>
                  <a:pt x="18524" y="11074"/>
                  <a:pt x="18579" y="11038"/>
                </a:cubicBezTo>
                <a:cubicBezTo>
                  <a:pt x="18652" y="10990"/>
                  <a:pt x="18701" y="10977"/>
                  <a:pt x="18777" y="10939"/>
                </a:cubicBezTo>
                <a:cubicBezTo>
                  <a:pt x="18823" y="10916"/>
                  <a:pt x="18872" y="10886"/>
                  <a:pt x="18926" y="10864"/>
                </a:cubicBezTo>
                <a:cubicBezTo>
                  <a:pt x="18975" y="10844"/>
                  <a:pt x="19024" y="10814"/>
                  <a:pt x="19075" y="10790"/>
                </a:cubicBezTo>
                <a:cubicBezTo>
                  <a:pt x="19129" y="10764"/>
                  <a:pt x="19196" y="10750"/>
                  <a:pt x="19248" y="10716"/>
                </a:cubicBezTo>
                <a:cubicBezTo>
                  <a:pt x="19316" y="10672"/>
                  <a:pt x="19359" y="10618"/>
                  <a:pt x="19422" y="10567"/>
                </a:cubicBezTo>
                <a:cubicBezTo>
                  <a:pt x="19455" y="10540"/>
                  <a:pt x="19506" y="10501"/>
                  <a:pt x="19546" y="10468"/>
                </a:cubicBezTo>
                <a:cubicBezTo>
                  <a:pt x="19572" y="10447"/>
                  <a:pt x="19575" y="10443"/>
                  <a:pt x="19596" y="10418"/>
                </a:cubicBezTo>
                <a:cubicBezTo>
                  <a:pt x="19608" y="10404"/>
                  <a:pt x="19630" y="10366"/>
                  <a:pt x="19645" y="10344"/>
                </a:cubicBezTo>
                <a:cubicBezTo>
                  <a:pt x="19525" y="10392"/>
                  <a:pt x="19396" y="10443"/>
                  <a:pt x="19273" y="10492"/>
                </a:cubicBezTo>
                <a:cubicBezTo>
                  <a:pt x="19145" y="10543"/>
                  <a:pt x="19023" y="10606"/>
                  <a:pt x="18901" y="10666"/>
                </a:cubicBezTo>
                <a:cubicBezTo>
                  <a:pt x="18661" y="10784"/>
                  <a:pt x="18418" y="10909"/>
                  <a:pt x="18207" y="11063"/>
                </a:cubicBezTo>
                <a:cubicBezTo>
                  <a:pt x="18121" y="11126"/>
                  <a:pt x="18010" y="11188"/>
                  <a:pt x="17934" y="11261"/>
                </a:cubicBezTo>
                <a:cubicBezTo>
                  <a:pt x="17832" y="11359"/>
                  <a:pt x="17754" y="11447"/>
                  <a:pt x="17636" y="11534"/>
                </a:cubicBezTo>
                <a:cubicBezTo>
                  <a:pt x="17507" y="11629"/>
                  <a:pt x="17407" y="11726"/>
                  <a:pt x="17289" y="11832"/>
                </a:cubicBezTo>
                <a:cubicBezTo>
                  <a:pt x="17154" y="11953"/>
                  <a:pt x="17016" y="12032"/>
                  <a:pt x="16867" y="12129"/>
                </a:cubicBezTo>
                <a:cubicBezTo>
                  <a:pt x="16784" y="12183"/>
                  <a:pt x="16706" y="12250"/>
                  <a:pt x="16619" y="12303"/>
                </a:cubicBezTo>
                <a:cubicBezTo>
                  <a:pt x="16493" y="12380"/>
                  <a:pt x="16349" y="12464"/>
                  <a:pt x="16222" y="12526"/>
                </a:cubicBezTo>
                <a:cubicBezTo>
                  <a:pt x="16150" y="12561"/>
                  <a:pt x="16061" y="12587"/>
                  <a:pt x="15999" y="12626"/>
                </a:cubicBezTo>
                <a:cubicBezTo>
                  <a:pt x="15964" y="12648"/>
                  <a:pt x="15901" y="12678"/>
                  <a:pt x="15875" y="12700"/>
                </a:cubicBezTo>
                <a:cubicBezTo>
                  <a:pt x="15875" y="12708"/>
                  <a:pt x="15875" y="12717"/>
                  <a:pt x="15875" y="12725"/>
                </a:cubicBezTo>
                <a:cubicBezTo>
                  <a:pt x="15875" y="12536"/>
                  <a:pt x="15864" y="12372"/>
                  <a:pt x="15925" y="12204"/>
                </a:cubicBezTo>
                <a:cubicBezTo>
                  <a:pt x="15964" y="12096"/>
                  <a:pt x="16040" y="11989"/>
                  <a:pt x="16073" y="11881"/>
                </a:cubicBezTo>
                <a:cubicBezTo>
                  <a:pt x="16091" y="11824"/>
                  <a:pt x="16087" y="11765"/>
                  <a:pt x="16098" y="11708"/>
                </a:cubicBezTo>
                <a:cubicBezTo>
                  <a:pt x="16109" y="11649"/>
                  <a:pt x="16114" y="11594"/>
                  <a:pt x="16123" y="11534"/>
                </a:cubicBezTo>
              </a:path>
              <a:path w="8558" h="3722">
                <a:moveTo>
                  <a:pt x="16049" y="10096"/>
                </a:moveTo>
                <a:cubicBezTo>
                  <a:pt x="16072" y="10002"/>
                  <a:pt x="16073" y="9947"/>
                  <a:pt x="16073" y="9847"/>
                </a:cubicBezTo>
                <a:cubicBezTo>
                  <a:pt x="16073" y="9771"/>
                  <a:pt x="16083" y="9711"/>
                  <a:pt x="16049" y="9649"/>
                </a:cubicBezTo>
                <a:cubicBezTo>
                  <a:pt x="16026" y="9606"/>
                  <a:pt x="15991" y="9568"/>
                  <a:pt x="15974" y="9525"/>
                </a:cubicBezTo>
                <a:cubicBezTo>
                  <a:pt x="15964" y="9499"/>
                  <a:pt x="15933" y="9468"/>
                  <a:pt x="15925" y="9451"/>
                </a:cubicBezTo>
                <a:cubicBezTo>
                  <a:pt x="15925" y="9668"/>
                  <a:pt x="15940" y="9880"/>
                  <a:pt x="15949" y="10096"/>
                </a:cubicBezTo>
                <a:cubicBezTo>
                  <a:pt x="15963" y="10443"/>
                  <a:pt x="15948" y="10793"/>
                  <a:pt x="15925" y="11137"/>
                </a:cubicBezTo>
                <a:cubicBezTo>
                  <a:pt x="15914" y="11302"/>
                  <a:pt x="15904" y="11468"/>
                  <a:pt x="15900" y="11633"/>
                </a:cubicBezTo>
                <a:cubicBezTo>
                  <a:pt x="15896" y="11784"/>
                  <a:pt x="15875" y="11928"/>
                  <a:pt x="15875" y="12080"/>
                </a:cubicBezTo>
                <a:cubicBezTo>
                  <a:pt x="15875" y="12182"/>
                  <a:pt x="15836" y="12273"/>
                  <a:pt x="15850" y="12378"/>
                </a:cubicBezTo>
                <a:cubicBezTo>
                  <a:pt x="15856" y="12423"/>
                  <a:pt x="15873" y="12453"/>
                  <a:pt x="15875" y="12502"/>
                </a:cubicBezTo>
                <a:cubicBezTo>
                  <a:pt x="15877" y="12543"/>
                  <a:pt x="15904" y="12560"/>
                  <a:pt x="15900" y="12601"/>
                </a:cubicBezTo>
                <a:cubicBezTo>
                  <a:pt x="15898" y="12619"/>
                  <a:pt x="15858" y="12706"/>
                  <a:pt x="15875" y="12650"/>
                </a:cubicBezTo>
                <a:cubicBezTo>
                  <a:pt x="15883" y="12625"/>
                  <a:pt x="15892" y="12601"/>
                  <a:pt x="15900" y="12576"/>
                </a:cubicBezTo>
              </a:path>
              <a:path w="8558" h="3722">
                <a:moveTo>
                  <a:pt x="15701" y="9426"/>
                </a:moveTo>
                <a:cubicBezTo>
                  <a:pt x="15701" y="9487"/>
                  <a:pt x="15703" y="9514"/>
                  <a:pt x="15701" y="9575"/>
                </a:cubicBezTo>
                <a:cubicBezTo>
                  <a:pt x="15696" y="9727"/>
                  <a:pt x="15698" y="9872"/>
                  <a:pt x="15677" y="10021"/>
                </a:cubicBezTo>
                <a:cubicBezTo>
                  <a:pt x="15664" y="10117"/>
                  <a:pt x="15641" y="10233"/>
                  <a:pt x="15627" y="10319"/>
                </a:cubicBezTo>
                <a:cubicBezTo>
                  <a:pt x="15617" y="10378"/>
                  <a:pt x="15612" y="10432"/>
                  <a:pt x="15602" y="10492"/>
                </a:cubicBezTo>
                <a:cubicBezTo>
                  <a:pt x="15581" y="10624"/>
                  <a:pt x="15560" y="10756"/>
                  <a:pt x="15553" y="10889"/>
                </a:cubicBezTo>
                <a:cubicBezTo>
                  <a:pt x="15546" y="11016"/>
                  <a:pt x="15553" y="11144"/>
                  <a:pt x="15553" y="11261"/>
                </a:cubicBezTo>
                <a:cubicBezTo>
                  <a:pt x="15553" y="11499"/>
                  <a:pt x="15567" y="11759"/>
                  <a:pt x="15577" y="11981"/>
                </a:cubicBezTo>
                <a:cubicBezTo>
                  <a:pt x="15583" y="12116"/>
                  <a:pt x="15595" y="12246"/>
                  <a:pt x="15602" y="12378"/>
                </a:cubicBezTo>
                <a:cubicBezTo>
                  <a:pt x="15606" y="12452"/>
                  <a:pt x="15602" y="12527"/>
                  <a:pt x="15602" y="12601"/>
                </a:cubicBezTo>
                <a:cubicBezTo>
                  <a:pt x="15692" y="12604"/>
                  <a:pt x="15800" y="12622"/>
                  <a:pt x="15875" y="12626"/>
                </a:cubicBezTo>
                <a:cubicBezTo>
                  <a:pt x="16253" y="12648"/>
                  <a:pt x="16621" y="12615"/>
                  <a:pt x="16991" y="12675"/>
                </a:cubicBezTo>
                <a:cubicBezTo>
                  <a:pt x="17090" y="12691"/>
                  <a:pt x="17189" y="12688"/>
                  <a:pt x="17289" y="12700"/>
                </a:cubicBezTo>
                <a:cubicBezTo>
                  <a:pt x="17378" y="12711"/>
                  <a:pt x="17466" y="12723"/>
                  <a:pt x="17562" y="12725"/>
                </a:cubicBezTo>
                <a:cubicBezTo>
                  <a:pt x="17787" y="12729"/>
                  <a:pt x="18007" y="12747"/>
                  <a:pt x="18231" y="12750"/>
                </a:cubicBezTo>
                <a:cubicBezTo>
                  <a:pt x="18481" y="12754"/>
                  <a:pt x="18733" y="12759"/>
                  <a:pt x="18976" y="12750"/>
                </a:cubicBezTo>
                <a:cubicBezTo>
                  <a:pt x="19029" y="12748"/>
                  <a:pt x="19091" y="12752"/>
                  <a:pt x="19149" y="12750"/>
                </a:cubicBezTo>
                <a:cubicBezTo>
                  <a:pt x="19341" y="12742"/>
                  <a:pt x="19529" y="12728"/>
                  <a:pt x="19720" y="12725"/>
                </a:cubicBezTo>
                <a:cubicBezTo>
                  <a:pt x="19954" y="12721"/>
                  <a:pt x="20186" y="12717"/>
                  <a:pt x="20414" y="12700"/>
                </a:cubicBezTo>
                <a:cubicBezTo>
                  <a:pt x="20445" y="12698"/>
                  <a:pt x="20433" y="12706"/>
                  <a:pt x="20489" y="12700"/>
                </a:cubicBezTo>
                <a:cubicBezTo>
                  <a:pt x="20497" y="12700"/>
                  <a:pt x="20505" y="12700"/>
                  <a:pt x="20513" y="12700"/>
                </a:cubicBezTo>
                <a:cubicBezTo>
                  <a:pt x="20349" y="12700"/>
                  <a:pt x="20163" y="12717"/>
                  <a:pt x="20017" y="12725"/>
                </a:cubicBezTo>
                <a:cubicBezTo>
                  <a:pt x="19929" y="12730"/>
                  <a:pt x="19853" y="12743"/>
                  <a:pt x="19769" y="12750"/>
                </a:cubicBezTo>
                <a:cubicBezTo>
                  <a:pt x="19487" y="12772"/>
                  <a:pt x="19151" y="12783"/>
                  <a:pt x="18876" y="12774"/>
                </a:cubicBezTo>
                <a:cubicBezTo>
                  <a:pt x="18755" y="12770"/>
                  <a:pt x="18646" y="12770"/>
                  <a:pt x="18529" y="12774"/>
                </a:cubicBezTo>
                <a:cubicBezTo>
                  <a:pt x="18330" y="12780"/>
                  <a:pt x="18128" y="12790"/>
                  <a:pt x="17934" y="12799"/>
                </a:cubicBezTo>
                <a:cubicBezTo>
                  <a:pt x="17604" y="12815"/>
                  <a:pt x="17267" y="12806"/>
                  <a:pt x="16942" y="12824"/>
                </a:cubicBezTo>
                <a:cubicBezTo>
                  <a:pt x="16769" y="12834"/>
                  <a:pt x="16589" y="12840"/>
                  <a:pt x="16421" y="12849"/>
                </a:cubicBezTo>
                <a:cubicBezTo>
                  <a:pt x="16233" y="12859"/>
                  <a:pt x="16030" y="12866"/>
                  <a:pt x="15850" y="12874"/>
                </a:cubicBezTo>
                <a:cubicBezTo>
                  <a:pt x="15743" y="12879"/>
                  <a:pt x="15568" y="12905"/>
                  <a:pt x="15478" y="12898"/>
                </a:cubicBezTo>
                <a:cubicBezTo>
                  <a:pt x="15478" y="12890"/>
                  <a:pt x="15478" y="12882"/>
                  <a:pt x="15478" y="12874"/>
                </a:cubicBezTo>
              </a:path>
              <a:path w="8558" h="3722">
                <a:moveTo>
                  <a:pt x="19769" y="10294"/>
                </a:moveTo>
                <a:cubicBezTo>
                  <a:pt x="19706" y="10322"/>
                  <a:pt x="19681" y="10335"/>
                  <a:pt x="19621" y="10368"/>
                </a:cubicBezTo>
                <a:cubicBezTo>
                  <a:pt x="19547" y="10409"/>
                  <a:pt x="19502" y="10414"/>
                  <a:pt x="19422" y="10443"/>
                </a:cubicBezTo>
                <a:cubicBezTo>
                  <a:pt x="19376" y="10459"/>
                  <a:pt x="19319" y="10468"/>
                  <a:pt x="19273" y="10492"/>
                </a:cubicBezTo>
                <a:cubicBezTo>
                  <a:pt x="19238" y="10510"/>
                  <a:pt x="19182" y="10544"/>
                  <a:pt x="19149" y="10567"/>
                </a:cubicBezTo>
                <a:cubicBezTo>
                  <a:pt x="19095" y="10604"/>
                  <a:pt x="19027" y="10650"/>
                  <a:pt x="18976" y="10691"/>
                </a:cubicBezTo>
                <a:cubicBezTo>
                  <a:pt x="18907" y="10747"/>
                  <a:pt x="18847" y="10809"/>
                  <a:pt x="18777" y="10864"/>
                </a:cubicBezTo>
                <a:cubicBezTo>
                  <a:pt x="18712" y="10915"/>
                  <a:pt x="18647" y="10965"/>
                  <a:pt x="18579" y="11013"/>
                </a:cubicBezTo>
                <a:cubicBezTo>
                  <a:pt x="18477" y="11084"/>
                  <a:pt x="18343" y="11155"/>
                  <a:pt x="18256" y="11237"/>
                </a:cubicBezTo>
                <a:cubicBezTo>
                  <a:pt x="18159" y="11328"/>
                  <a:pt x="18084" y="11423"/>
                  <a:pt x="17983" y="11509"/>
                </a:cubicBezTo>
                <a:cubicBezTo>
                  <a:pt x="17918" y="11564"/>
                  <a:pt x="17853" y="11609"/>
                  <a:pt x="17785" y="11658"/>
                </a:cubicBezTo>
                <a:cubicBezTo>
                  <a:pt x="17714" y="11710"/>
                  <a:pt x="17641" y="11764"/>
                  <a:pt x="17562" y="11807"/>
                </a:cubicBezTo>
                <a:cubicBezTo>
                  <a:pt x="17458" y="11864"/>
                  <a:pt x="17365" y="11919"/>
                  <a:pt x="17264" y="11981"/>
                </a:cubicBezTo>
                <a:cubicBezTo>
                  <a:pt x="17176" y="12035"/>
                  <a:pt x="17083" y="12082"/>
                  <a:pt x="16991" y="12129"/>
                </a:cubicBezTo>
                <a:cubicBezTo>
                  <a:pt x="16902" y="12174"/>
                  <a:pt x="16830" y="12233"/>
                  <a:pt x="16743" y="12278"/>
                </a:cubicBezTo>
                <a:cubicBezTo>
                  <a:pt x="16688" y="12306"/>
                  <a:pt x="16605" y="12337"/>
                  <a:pt x="16545" y="12353"/>
                </a:cubicBezTo>
                <a:cubicBezTo>
                  <a:pt x="16456" y="12376"/>
                  <a:pt x="16374" y="12388"/>
                  <a:pt x="16297" y="12427"/>
                </a:cubicBezTo>
                <a:cubicBezTo>
                  <a:pt x="16196" y="12478"/>
                  <a:pt x="16100" y="12527"/>
                  <a:pt x="15999" y="12576"/>
                </a:cubicBezTo>
                <a:cubicBezTo>
                  <a:pt x="15949" y="12600"/>
                  <a:pt x="15870" y="12622"/>
                  <a:pt x="15825" y="12650"/>
                </a:cubicBezTo>
                <a:cubicBezTo>
                  <a:pt x="15737" y="12705"/>
                  <a:pt x="15643" y="12747"/>
                  <a:pt x="15553" y="12799"/>
                </a:cubicBezTo>
                <a:cubicBezTo>
                  <a:pt x="15545" y="12807"/>
                  <a:pt x="15536" y="12816"/>
                  <a:pt x="15528" y="12824"/>
                </a:cubicBezTo>
                <a:cubicBezTo>
                  <a:pt x="15612" y="12815"/>
                  <a:pt x="15691" y="12804"/>
                  <a:pt x="15776" y="12799"/>
                </a:cubicBezTo>
                <a:cubicBezTo>
                  <a:pt x="16097" y="12780"/>
                  <a:pt x="16424" y="12790"/>
                  <a:pt x="16743" y="12774"/>
                </a:cubicBezTo>
                <a:cubicBezTo>
                  <a:pt x="17029" y="12760"/>
                  <a:pt x="17304" y="12752"/>
                  <a:pt x="17587" y="12725"/>
                </a:cubicBezTo>
                <a:cubicBezTo>
                  <a:pt x="17730" y="12712"/>
                  <a:pt x="17868" y="12696"/>
                  <a:pt x="18008" y="12675"/>
                </a:cubicBezTo>
                <a:cubicBezTo>
                  <a:pt x="18115" y="12659"/>
                  <a:pt x="18221" y="12652"/>
                  <a:pt x="18331" y="12650"/>
                </a:cubicBezTo>
                <a:cubicBezTo>
                  <a:pt x="18508" y="12647"/>
                  <a:pt x="18679" y="12654"/>
                  <a:pt x="18852" y="12675"/>
                </a:cubicBezTo>
                <a:cubicBezTo>
                  <a:pt x="18990" y="12691"/>
                  <a:pt x="19135" y="12717"/>
                  <a:pt x="19273" y="12725"/>
                </a:cubicBezTo>
                <a:cubicBezTo>
                  <a:pt x="19445" y="12735"/>
                  <a:pt x="19625" y="12743"/>
                  <a:pt x="19794" y="12750"/>
                </a:cubicBezTo>
                <a:cubicBezTo>
                  <a:pt x="20034" y="12760"/>
                  <a:pt x="20277" y="12760"/>
                  <a:pt x="20513" y="12774"/>
                </a:cubicBezTo>
                <a:cubicBezTo>
                  <a:pt x="20566" y="12777"/>
                  <a:pt x="20560" y="12756"/>
                  <a:pt x="20613" y="12750"/>
                </a:cubicBezTo>
              </a:path>
              <a:path w="8558" h="3722">
                <a:moveTo>
                  <a:pt x="19720" y="10418"/>
                </a:moveTo>
                <a:cubicBezTo>
                  <a:pt x="19646" y="10455"/>
                  <a:pt x="19571" y="10497"/>
                  <a:pt x="19496" y="10542"/>
                </a:cubicBezTo>
                <a:cubicBezTo>
                  <a:pt x="19427" y="10584"/>
                  <a:pt x="19338" y="10613"/>
                  <a:pt x="19273" y="10666"/>
                </a:cubicBezTo>
                <a:cubicBezTo>
                  <a:pt x="19216" y="10712"/>
                  <a:pt x="19179" y="10796"/>
                  <a:pt x="19124" y="10840"/>
                </a:cubicBezTo>
                <a:cubicBezTo>
                  <a:pt x="19071" y="10882"/>
                  <a:pt x="19003" y="10903"/>
                  <a:pt x="18951" y="10939"/>
                </a:cubicBezTo>
                <a:cubicBezTo>
                  <a:pt x="18892" y="10980"/>
                  <a:pt x="18829" y="11055"/>
                  <a:pt x="18777" y="11088"/>
                </a:cubicBezTo>
                <a:cubicBezTo>
                  <a:pt x="18719" y="11125"/>
                  <a:pt x="18644" y="11163"/>
                  <a:pt x="18579" y="11212"/>
                </a:cubicBezTo>
                <a:cubicBezTo>
                  <a:pt x="18489" y="11280"/>
                  <a:pt x="18400" y="11375"/>
                  <a:pt x="18306" y="11435"/>
                </a:cubicBezTo>
                <a:cubicBezTo>
                  <a:pt x="18216" y="11493"/>
                  <a:pt x="18127" y="11559"/>
                  <a:pt x="18033" y="11609"/>
                </a:cubicBezTo>
                <a:cubicBezTo>
                  <a:pt x="17917" y="11671"/>
                  <a:pt x="17783" y="11736"/>
                  <a:pt x="17661" y="11782"/>
                </a:cubicBezTo>
                <a:cubicBezTo>
                  <a:pt x="17541" y="11827"/>
                  <a:pt x="17428" y="11850"/>
                  <a:pt x="17314" y="11906"/>
                </a:cubicBezTo>
                <a:cubicBezTo>
                  <a:pt x="17229" y="11948"/>
                  <a:pt x="17168" y="11990"/>
                  <a:pt x="17090" y="12030"/>
                </a:cubicBezTo>
                <a:cubicBezTo>
                  <a:pt x="17001" y="12076"/>
                  <a:pt x="16901" y="12121"/>
                  <a:pt x="16818" y="12179"/>
                </a:cubicBezTo>
                <a:cubicBezTo>
                  <a:pt x="16720" y="12247"/>
                  <a:pt x="16623" y="12323"/>
                  <a:pt x="16520" y="12378"/>
                </a:cubicBezTo>
                <a:cubicBezTo>
                  <a:pt x="16331" y="12480"/>
                  <a:pt x="16138" y="12579"/>
                  <a:pt x="15949" y="12675"/>
                </a:cubicBezTo>
                <a:cubicBezTo>
                  <a:pt x="15882" y="12709"/>
                  <a:pt x="15815" y="12747"/>
                  <a:pt x="15751" y="12774"/>
                </a:cubicBezTo>
                <a:cubicBezTo>
                  <a:pt x="15694" y="12802"/>
                  <a:pt x="15671" y="12813"/>
                  <a:pt x="15627" y="12824"/>
                </a:cubicBezTo>
                <a:cubicBezTo>
                  <a:pt x="15688" y="12821"/>
                  <a:pt x="15715" y="12831"/>
                  <a:pt x="15776" y="12824"/>
                </a:cubicBezTo>
                <a:cubicBezTo>
                  <a:pt x="15974" y="12802"/>
                  <a:pt x="16174" y="12820"/>
                  <a:pt x="16371" y="12799"/>
                </a:cubicBezTo>
                <a:cubicBezTo>
                  <a:pt x="16535" y="12782"/>
                  <a:pt x="16700" y="12761"/>
                  <a:pt x="16867" y="12774"/>
                </a:cubicBezTo>
                <a:cubicBezTo>
                  <a:pt x="16999" y="12784"/>
                  <a:pt x="17113" y="12778"/>
                  <a:pt x="17239" y="12774"/>
                </a:cubicBezTo>
                <a:cubicBezTo>
                  <a:pt x="17349" y="12771"/>
                  <a:pt x="17461" y="12793"/>
                  <a:pt x="17562" y="12799"/>
                </a:cubicBezTo>
                <a:cubicBezTo>
                  <a:pt x="17679" y="12805"/>
                  <a:pt x="17793" y="12811"/>
                  <a:pt x="17909" y="12824"/>
                </a:cubicBezTo>
                <a:cubicBezTo>
                  <a:pt x="18050" y="12840"/>
                  <a:pt x="18188" y="12847"/>
                  <a:pt x="18331" y="12849"/>
                </a:cubicBezTo>
                <a:cubicBezTo>
                  <a:pt x="18449" y="12851"/>
                  <a:pt x="18563" y="12868"/>
                  <a:pt x="18678" y="12874"/>
                </a:cubicBezTo>
                <a:cubicBezTo>
                  <a:pt x="18852" y="12882"/>
                  <a:pt x="19026" y="12895"/>
                  <a:pt x="19199" y="12898"/>
                </a:cubicBezTo>
                <a:cubicBezTo>
                  <a:pt x="19334" y="12900"/>
                  <a:pt x="19466" y="12881"/>
                  <a:pt x="19596" y="12874"/>
                </a:cubicBezTo>
                <a:cubicBezTo>
                  <a:pt x="19692" y="12869"/>
                  <a:pt x="19782" y="12894"/>
                  <a:pt x="19869" y="12898"/>
                </a:cubicBezTo>
                <a:cubicBezTo>
                  <a:pt x="20132" y="12911"/>
                  <a:pt x="20399" y="12898"/>
                  <a:pt x="20662" y="12898"/>
                </a:cubicBezTo>
              </a:path>
              <a:path w="8558" h="3722">
                <a:moveTo>
                  <a:pt x="12105" y="12973"/>
                </a:moveTo>
                <a:cubicBezTo>
                  <a:pt x="12162" y="12980"/>
                  <a:pt x="12199" y="12995"/>
                  <a:pt x="12254" y="12998"/>
                </a:cubicBezTo>
                <a:cubicBezTo>
                  <a:pt x="12440" y="13008"/>
                  <a:pt x="12617" y="12981"/>
                  <a:pt x="12799" y="12973"/>
                </a:cubicBezTo>
                <a:cubicBezTo>
                  <a:pt x="12935" y="12967"/>
                  <a:pt x="13063" y="12954"/>
                  <a:pt x="13196" y="12948"/>
                </a:cubicBezTo>
                <a:cubicBezTo>
                  <a:pt x="13785" y="12920"/>
                  <a:pt x="14373" y="12974"/>
                  <a:pt x="14957" y="12998"/>
                </a:cubicBezTo>
                <a:cubicBezTo>
                  <a:pt x="15064" y="13002"/>
                  <a:pt x="15153" y="13012"/>
                  <a:pt x="15255" y="13022"/>
                </a:cubicBezTo>
                <a:cubicBezTo>
                  <a:pt x="15379" y="13034"/>
                  <a:pt x="15504" y="13033"/>
                  <a:pt x="15627" y="13047"/>
                </a:cubicBezTo>
                <a:cubicBezTo>
                  <a:pt x="15748" y="13060"/>
                  <a:pt x="15734" y="13076"/>
                  <a:pt x="15825" y="13047"/>
                </a:cubicBezTo>
                <a:cubicBezTo>
                  <a:pt x="15921" y="13016"/>
                  <a:pt x="16067" y="12866"/>
                  <a:pt x="16148" y="12799"/>
                </a:cubicBezTo>
                <a:cubicBezTo>
                  <a:pt x="16227" y="12734"/>
                  <a:pt x="16316" y="12671"/>
                  <a:pt x="16396" y="12601"/>
                </a:cubicBezTo>
                <a:cubicBezTo>
                  <a:pt x="16554" y="12464"/>
                  <a:pt x="16684" y="12327"/>
                  <a:pt x="16867" y="12229"/>
                </a:cubicBezTo>
                <a:cubicBezTo>
                  <a:pt x="17181" y="12061"/>
                  <a:pt x="17464" y="11884"/>
                  <a:pt x="17760" y="11683"/>
                </a:cubicBezTo>
                <a:cubicBezTo>
                  <a:pt x="17881" y="11601"/>
                  <a:pt x="18006" y="11532"/>
                  <a:pt x="18132" y="11460"/>
                </a:cubicBezTo>
                <a:cubicBezTo>
                  <a:pt x="18248" y="11394"/>
                  <a:pt x="18365" y="11332"/>
                  <a:pt x="18479" y="11261"/>
                </a:cubicBezTo>
                <a:cubicBezTo>
                  <a:pt x="18587" y="11194"/>
                  <a:pt x="18695" y="11130"/>
                  <a:pt x="18802" y="11063"/>
                </a:cubicBezTo>
                <a:cubicBezTo>
                  <a:pt x="18901" y="11000"/>
                  <a:pt x="19001" y="10921"/>
                  <a:pt x="19100" y="10864"/>
                </a:cubicBezTo>
                <a:cubicBezTo>
                  <a:pt x="19187" y="10814"/>
                  <a:pt x="19300" y="10782"/>
                  <a:pt x="19372" y="10740"/>
                </a:cubicBezTo>
                <a:cubicBezTo>
                  <a:pt x="19425" y="10709"/>
                  <a:pt x="19468" y="10673"/>
                  <a:pt x="19521" y="10641"/>
                </a:cubicBezTo>
                <a:cubicBezTo>
                  <a:pt x="19586" y="10602"/>
                  <a:pt x="19584" y="10604"/>
                  <a:pt x="19645" y="10567"/>
                </a:cubicBezTo>
                <a:cubicBezTo>
                  <a:pt x="19673" y="10550"/>
                  <a:pt x="19723" y="10534"/>
                  <a:pt x="19745" y="10517"/>
                </a:cubicBezTo>
                <a:cubicBezTo>
                  <a:pt x="19777" y="10492"/>
                  <a:pt x="19738" y="10495"/>
                  <a:pt x="19769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71800" y="2687760"/>
            <a:ext cx="955440" cy="37620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6127" y="8310"/>
                </a:moveTo>
                <a:cubicBezTo>
                  <a:pt x="6193" y="8210"/>
                  <a:pt x="6198" y="8099"/>
                  <a:pt x="6127" y="7987"/>
                </a:cubicBezTo>
                <a:cubicBezTo>
                  <a:pt x="6046" y="7859"/>
                  <a:pt x="5996" y="7868"/>
                  <a:pt x="5879" y="7888"/>
                </a:cubicBezTo>
                <a:cubicBezTo>
                  <a:pt x="5751" y="8096"/>
                  <a:pt x="5741" y="8199"/>
                  <a:pt x="5804" y="8434"/>
                </a:cubicBezTo>
                <a:cubicBezTo>
                  <a:pt x="5937" y="8460"/>
                  <a:pt x="6042" y="8400"/>
                  <a:pt x="6102" y="8260"/>
                </a:cubicBezTo>
                <a:cubicBezTo>
                  <a:pt x="6148" y="8153"/>
                  <a:pt x="6127" y="8025"/>
                  <a:pt x="6127" y="7913"/>
                </a:cubicBezTo>
                <a:cubicBezTo>
                  <a:pt x="6127" y="8045"/>
                  <a:pt x="6189" y="8209"/>
                  <a:pt x="6226" y="8334"/>
                </a:cubicBezTo>
                <a:cubicBezTo>
                  <a:pt x="6296" y="8568"/>
                  <a:pt x="6284" y="8525"/>
                  <a:pt x="6375" y="8334"/>
                </a:cubicBezTo>
              </a:path>
              <a:path w="2655" h="1043">
                <a:moveTo>
                  <a:pt x="6722" y="7913"/>
                </a:moveTo>
                <a:cubicBezTo>
                  <a:pt x="6705" y="7871"/>
                  <a:pt x="6690" y="7855"/>
                  <a:pt x="6648" y="7838"/>
                </a:cubicBezTo>
                <a:cubicBezTo>
                  <a:pt x="6516" y="7937"/>
                  <a:pt x="6355" y="8166"/>
                  <a:pt x="6449" y="8359"/>
                </a:cubicBezTo>
                <a:cubicBezTo>
                  <a:pt x="6544" y="8555"/>
                  <a:pt x="6772" y="8378"/>
                  <a:pt x="6871" y="8310"/>
                </a:cubicBezTo>
              </a:path>
              <a:path w="2655" h="1043">
                <a:moveTo>
                  <a:pt x="6995" y="7863"/>
                </a:moveTo>
                <a:cubicBezTo>
                  <a:pt x="6966" y="8033"/>
                  <a:pt x="6933" y="8241"/>
                  <a:pt x="6995" y="8409"/>
                </a:cubicBezTo>
                <a:cubicBezTo>
                  <a:pt x="7003" y="8409"/>
                  <a:pt x="7012" y="8409"/>
                  <a:pt x="7020" y="8409"/>
                </a:cubicBezTo>
                <a:cubicBezTo>
                  <a:pt x="7190" y="8300"/>
                  <a:pt x="7184" y="8139"/>
                  <a:pt x="7193" y="7938"/>
                </a:cubicBezTo>
                <a:cubicBezTo>
                  <a:pt x="7193" y="7913"/>
                  <a:pt x="7193" y="7888"/>
                  <a:pt x="7193" y="7863"/>
                </a:cubicBezTo>
                <a:cubicBezTo>
                  <a:pt x="7228" y="8043"/>
                  <a:pt x="7241" y="8235"/>
                  <a:pt x="7293" y="8409"/>
                </a:cubicBezTo>
                <a:cubicBezTo>
                  <a:pt x="7314" y="8452"/>
                  <a:pt x="7317" y="8473"/>
                  <a:pt x="7342" y="8434"/>
                </a:cubicBezTo>
              </a:path>
              <a:path w="2655" h="1043">
                <a:moveTo>
                  <a:pt x="7516" y="7466"/>
                </a:moveTo>
                <a:cubicBezTo>
                  <a:pt x="7535" y="7696"/>
                  <a:pt x="7556" y="7929"/>
                  <a:pt x="7565" y="8161"/>
                </a:cubicBezTo>
                <a:cubicBezTo>
                  <a:pt x="7565" y="8303"/>
                  <a:pt x="7555" y="8331"/>
                  <a:pt x="7590" y="8409"/>
                </a:cubicBezTo>
              </a:path>
              <a:path w="2655" h="1043">
                <a:moveTo>
                  <a:pt x="7293" y="8012"/>
                </a:moveTo>
                <a:cubicBezTo>
                  <a:pt x="7457" y="7959"/>
                  <a:pt x="7617" y="7899"/>
                  <a:pt x="7789" y="7888"/>
                </a:cubicBezTo>
                <a:cubicBezTo>
                  <a:pt x="7797" y="7888"/>
                  <a:pt x="7805" y="7888"/>
                  <a:pt x="7813" y="7888"/>
                </a:cubicBezTo>
              </a:path>
              <a:path w="2655" h="1043">
                <a:moveTo>
                  <a:pt x="7938" y="8086"/>
                </a:moveTo>
                <a:cubicBezTo>
                  <a:pt x="8013" y="8071"/>
                  <a:pt x="8087" y="8032"/>
                  <a:pt x="8161" y="8012"/>
                </a:cubicBezTo>
                <a:cubicBezTo>
                  <a:pt x="8169" y="8012"/>
                  <a:pt x="8178" y="8012"/>
                  <a:pt x="8186" y="8012"/>
                </a:cubicBezTo>
                <a:cubicBezTo>
                  <a:pt x="8162" y="7949"/>
                  <a:pt x="8122" y="7766"/>
                  <a:pt x="8012" y="7838"/>
                </a:cubicBezTo>
                <a:cubicBezTo>
                  <a:pt x="7885" y="7922"/>
                  <a:pt x="7821" y="8206"/>
                  <a:pt x="7913" y="8334"/>
                </a:cubicBezTo>
                <a:cubicBezTo>
                  <a:pt x="8043" y="8515"/>
                  <a:pt x="8271" y="8344"/>
                  <a:pt x="8409" y="82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9000" y="34020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6276" y="9451"/>
                </a:moveTo>
                <a:cubicBezTo>
                  <a:pt x="6284" y="9451"/>
                  <a:pt x="6292" y="9451"/>
                  <a:pt x="6300" y="94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4160" y="3357720"/>
            <a:ext cx="768240" cy="517320"/>
          </a:xfrm>
          <a:custGeom>
            <a:avLst/>
            <a:gdLst/>
            <a:ahLst/>
            <a:rect l="l" t="t" r="r" b="b"/>
            <a:pathLst>
              <a:path w="2134" h="1439">
                <a:moveTo>
                  <a:pt x="5705" y="9798"/>
                </a:moveTo>
                <a:cubicBezTo>
                  <a:pt x="5744" y="9955"/>
                  <a:pt x="5804" y="10109"/>
                  <a:pt x="5829" y="10269"/>
                </a:cubicBezTo>
                <a:cubicBezTo>
                  <a:pt x="5803" y="10112"/>
                  <a:pt x="5712" y="9967"/>
                  <a:pt x="5755" y="9798"/>
                </a:cubicBezTo>
                <a:cubicBezTo>
                  <a:pt x="5803" y="9611"/>
                  <a:pt x="6054" y="9587"/>
                  <a:pt x="6201" y="9575"/>
                </a:cubicBezTo>
                <a:cubicBezTo>
                  <a:pt x="6240" y="9572"/>
                  <a:pt x="6240" y="9638"/>
                  <a:pt x="6251" y="9674"/>
                </a:cubicBezTo>
              </a:path>
              <a:path w="2134" h="1439">
                <a:moveTo>
                  <a:pt x="6350" y="9847"/>
                </a:moveTo>
                <a:cubicBezTo>
                  <a:pt x="6369" y="9979"/>
                  <a:pt x="6390" y="10111"/>
                  <a:pt x="6400" y="10244"/>
                </a:cubicBezTo>
              </a:path>
              <a:path w="2134" h="1439">
                <a:moveTo>
                  <a:pt x="6970" y="9996"/>
                </a:moveTo>
                <a:cubicBezTo>
                  <a:pt x="6891" y="9937"/>
                  <a:pt x="6865" y="9853"/>
                  <a:pt x="6747" y="9798"/>
                </a:cubicBezTo>
                <a:cubicBezTo>
                  <a:pt x="6657" y="9876"/>
                  <a:pt x="6419" y="10144"/>
                  <a:pt x="6623" y="10269"/>
                </a:cubicBezTo>
                <a:cubicBezTo>
                  <a:pt x="6824" y="10392"/>
                  <a:pt x="6863" y="9984"/>
                  <a:pt x="6871" y="9897"/>
                </a:cubicBezTo>
                <a:cubicBezTo>
                  <a:pt x="6925" y="10165"/>
                  <a:pt x="6964" y="10418"/>
                  <a:pt x="6970" y="10691"/>
                </a:cubicBezTo>
                <a:cubicBezTo>
                  <a:pt x="6971" y="10757"/>
                  <a:pt x="6970" y="10707"/>
                  <a:pt x="6970" y="10641"/>
                </a:cubicBezTo>
              </a:path>
              <a:path w="2134" h="1439">
                <a:moveTo>
                  <a:pt x="6995" y="9525"/>
                </a:moveTo>
                <a:cubicBezTo>
                  <a:pt x="6995" y="9525"/>
                  <a:pt x="7042" y="9889"/>
                  <a:pt x="7069" y="10096"/>
                </a:cubicBezTo>
                <a:cubicBezTo>
                  <a:pt x="7088" y="10228"/>
                  <a:pt x="7096" y="10244"/>
                  <a:pt x="7094" y="10319"/>
                </a:cubicBezTo>
                <a:cubicBezTo>
                  <a:pt x="7094" y="10199"/>
                  <a:pt x="7060" y="10097"/>
                  <a:pt x="7069" y="9971"/>
                </a:cubicBezTo>
                <a:cubicBezTo>
                  <a:pt x="7081" y="9811"/>
                  <a:pt x="7109" y="9788"/>
                  <a:pt x="7218" y="9699"/>
                </a:cubicBezTo>
                <a:cubicBezTo>
                  <a:pt x="7398" y="9802"/>
                  <a:pt x="7422" y="9961"/>
                  <a:pt x="7441" y="10170"/>
                </a:cubicBezTo>
                <a:cubicBezTo>
                  <a:pt x="7447" y="10231"/>
                  <a:pt x="7439" y="10349"/>
                  <a:pt x="7466" y="10294"/>
                </a:cubicBezTo>
              </a:path>
              <a:path w="2134" h="1439">
                <a:moveTo>
                  <a:pt x="7565" y="9327"/>
                </a:moveTo>
                <a:cubicBezTo>
                  <a:pt x="7603" y="9578"/>
                  <a:pt x="7605" y="9850"/>
                  <a:pt x="7665" y="10096"/>
                </a:cubicBezTo>
                <a:cubicBezTo>
                  <a:pt x="7701" y="10186"/>
                  <a:pt x="7717" y="10191"/>
                  <a:pt x="7714" y="10244"/>
                </a:cubicBezTo>
              </a:path>
              <a:path w="2134" h="1439">
                <a:moveTo>
                  <a:pt x="7392" y="9823"/>
                </a:moveTo>
                <a:cubicBezTo>
                  <a:pt x="7530" y="9794"/>
                  <a:pt x="7672" y="9759"/>
                  <a:pt x="7813" y="9748"/>
                </a:cubicBezTo>
                <a:cubicBezTo>
                  <a:pt x="7821" y="9748"/>
                  <a:pt x="7830" y="9748"/>
                  <a:pt x="7838" y="974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4880" y="3313080"/>
            <a:ext cx="500040" cy="384120"/>
          </a:xfrm>
          <a:custGeom>
            <a:avLst/>
            <a:gdLst/>
            <a:ahLst/>
            <a:rect l="l" t="t" r="r" b="b"/>
            <a:pathLst>
              <a:path w="1390" h="1067">
                <a:moveTo>
                  <a:pt x="8855" y="9649"/>
                </a:moveTo>
                <a:cubicBezTo>
                  <a:pt x="8810" y="9619"/>
                  <a:pt x="8807" y="9501"/>
                  <a:pt x="8731" y="9451"/>
                </a:cubicBezTo>
                <a:cubicBezTo>
                  <a:pt x="8568" y="9345"/>
                  <a:pt x="8428" y="9582"/>
                  <a:pt x="8458" y="9723"/>
                </a:cubicBezTo>
                <a:cubicBezTo>
                  <a:pt x="8483" y="9756"/>
                  <a:pt x="8508" y="9790"/>
                  <a:pt x="8533" y="9823"/>
                </a:cubicBezTo>
                <a:cubicBezTo>
                  <a:pt x="8699" y="9801"/>
                  <a:pt x="8893" y="9787"/>
                  <a:pt x="8855" y="9550"/>
                </a:cubicBezTo>
                <a:cubicBezTo>
                  <a:pt x="8830" y="9525"/>
                  <a:pt x="8822" y="9517"/>
                  <a:pt x="8855" y="9550"/>
                </a:cubicBezTo>
                <a:cubicBezTo>
                  <a:pt x="8909" y="9787"/>
                  <a:pt x="8917" y="10035"/>
                  <a:pt x="8979" y="10269"/>
                </a:cubicBezTo>
                <a:cubicBezTo>
                  <a:pt x="8979" y="10181"/>
                  <a:pt x="8997" y="10129"/>
                  <a:pt x="9054" y="10071"/>
                </a:cubicBezTo>
              </a:path>
              <a:path w="1390" h="1067">
                <a:moveTo>
                  <a:pt x="9277" y="9376"/>
                </a:moveTo>
                <a:cubicBezTo>
                  <a:pt x="9150" y="9581"/>
                  <a:pt x="9127" y="9827"/>
                  <a:pt x="9178" y="10071"/>
                </a:cubicBezTo>
                <a:cubicBezTo>
                  <a:pt x="9194" y="10104"/>
                  <a:pt x="9211" y="10137"/>
                  <a:pt x="9227" y="10170"/>
                </a:cubicBezTo>
                <a:cubicBezTo>
                  <a:pt x="9478" y="10156"/>
                  <a:pt x="9574" y="9997"/>
                  <a:pt x="9550" y="9723"/>
                </a:cubicBezTo>
                <a:cubicBezTo>
                  <a:pt x="9529" y="9488"/>
                  <a:pt x="9435" y="9536"/>
                  <a:pt x="9327" y="9426"/>
                </a:cubicBezTo>
                <a:cubicBezTo>
                  <a:pt x="9327" y="9418"/>
                  <a:pt x="9327" y="9409"/>
                  <a:pt x="9327" y="9401"/>
                </a:cubicBezTo>
              </a:path>
              <a:path w="1390" h="1067">
                <a:moveTo>
                  <a:pt x="9773" y="9203"/>
                </a:moveTo>
                <a:cubicBezTo>
                  <a:pt x="9685" y="9255"/>
                  <a:pt x="9665" y="9332"/>
                  <a:pt x="9674" y="9426"/>
                </a:cubicBezTo>
                <a:cubicBezTo>
                  <a:pt x="9744" y="9412"/>
                  <a:pt x="9932" y="9360"/>
                  <a:pt x="9823" y="9252"/>
                </a:cubicBezTo>
                <a:cubicBezTo>
                  <a:pt x="9798" y="9236"/>
                  <a:pt x="9773" y="9219"/>
                  <a:pt x="9748" y="92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240" y="4991040"/>
            <a:ext cx="812880" cy="46080"/>
          </a:xfrm>
          <a:custGeom>
            <a:avLst/>
            <a:gdLst/>
            <a:ahLst/>
            <a:rect l="l" t="t" r="r" b="b"/>
            <a:pathLst>
              <a:path w="2258" h="125">
                <a:moveTo>
                  <a:pt x="2059" y="13990"/>
                </a:moveTo>
                <a:cubicBezTo>
                  <a:pt x="2132" y="13953"/>
                  <a:pt x="2164" y="13954"/>
                  <a:pt x="2257" y="13940"/>
                </a:cubicBezTo>
                <a:cubicBezTo>
                  <a:pt x="2422" y="13914"/>
                  <a:pt x="2586" y="13895"/>
                  <a:pt x="2753" y="13891"/>
                </a:cubicBezTo>
                <a:cubicBezTo>
                  <a:pt x="2955" y="13887"/>
                  <a:pt x="3150" y="13881"/>
                  <a:pt x="3349" y="13866"/>
                </a:cubicBezTo>
                <a:cubicBezTo>
                  <a:pt x="3486" y="13855"/>
                  <a:pt x="3629" y="13891"/>
                  <a:pt x="3770" y="13891"/>
                </a:cubicBezTo>
                <a:cubicBezTo>
                  <a:pt x="3952" y="13891"/>
                  <a:pt x="4134" y="13891"/>
                  <a:pt x="4316" y="13891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84800" y="4643280"/>
            <a:ext cx="2973240" cy="54000"/>
          </a:xfrm>
          <a:custGeom>
            <a:avLst/>
            <a:gdLst/>
            <a:ahLst/>
            <a:rect l="l" t="t" r="r" b="b"/>
            <a:pathLst>
              <a:path w="8261" h="150">
                <a:moveTo>
                  <a:pt x="12204" y="12973"/>
                </a:moveTo>
                <a:cubicBezTo>
                  <a:pt x="12181" y="12950"/>
                  <a:pt x="12173" y="12939"/>
                  <a:pt x="12179" y="12973"/>
                </a:cubicBezTo>
                <a:cubicBezTo>
                  <a:pt x="12391" y="12973"/>
                  <a:pt x="12591" y="12994"/>
                  <a:pt x="12799" y="12998"/>
                </a:cubicBezTo>
                <a:cubicBezTo>
                  <a:pt x="12918" y="13000"/>
                  <a:pt x="13036" y="12979"/>
                  <a:pt x="13146" y="12973"/>
                </a:cubicBezTo>
                <a:cubicBezTo>
                  <a:pt x="13570" y="12950"/>
                  <a:pt x="14002" y="12953"/>
                  <a:pt x="14412" y="12923"/>
                </a:cubicBezTo>
                <a:cubicBezTo>
                  <a:pt x="14833" y="12892"/>
                  <a:pt x="15258" y="12949"/>
                  <a:pt x="15677" y="12898"/>
                </a:cubicBezTo>
                <a:cubicBezTo>
                  <a:pt x="15647" y="12945"/>
                  <a:pt x="15583" y="12919"/>
                  <a:pt x="15602" y="12948"/>
                </a:cubicBezTo>
                <a:cubicBezTo>
                  <a:pt x="15630" y="12989"/>
                  <a:pt x="15641" y="12978"/>
                  <a:pt x="15701" y="12998"/>
                </a:cubicBezTo>
                <a:cubicBezTo>
                  <a:pt x="15745" y="13013"/>
                  <a:pt x="15804" y="13018"/>
                  <a:pt x="15850" y="13022"/>
                </a:cubicBezTo>
                <a:cubicBezTo>
                  <a:pt x="15976" y="13032"/>
                  <a:pt x="16104" y="13004"/>
                  <a:pt x="16222" y="12998"/>
                </a:cubicBezTo>
                <a:cubicBezTo>
                  <a:pt x="16296" y="12994"/>
                  <a:pt x="16387" y="12977"/>
                  <a:pt x="16446" y="12973"/>
                </a:cubicBezTo>
                <a:cubicBezTo>
                  <a:pt x="17268" y="12916"/>
                  <a:pt x="18110" y="12988"/>
                  <a:pt x="18926" y="13022"/>
                </a:cubicBezTo>
                <a:cubicBezTo>
                  <a:pt x="19382" y="13041"/>
                  <a:pt x="19934" y="12938"/>
                  <a:pt x="20365" y="13047"/>
                </a:cubicBezTo>
                <a:cubicBezTo>
                  <a:pt x="20389" y="13053"/>
                  <a:pt x="20467" y="13029"/>
                  <a:pt x="20414" y="13047"/>
                </a:cubicBezTo>
                <a:cubicBezTo>
                  <a:pt x="20373" y="13047"/>
                  <a:pt x="20331" y="13047"/>
                  <a:pt x="20290" y="13047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9880" y="3990960"/>
            <a:ext cx="847800" cy="366840"/>
          </a:xfrm>
          <a:custGeom>
            <a:avLst/>
            <a:gdLst/>
            <a:ahLst/>
            <a:rect l="l" t="t" r="r" b="b"/>
            <a:pathLst>
              <a:path w="2358" h="1018">
                <a:moveTo>
                  <a:pt x="5879" y="11733"/>
                </a:moveTo>
                <a:cubicBezTo>
                  <a:pt x="5868" y="11644"/>
                  <a:pt x="5851" y="11610"/>
                  <a:pt x="5779" y="11559"/>
                </a:cubicBezTo>
                <a:cubicBezTo>
                  <a:pt x="5615" y="11580"/>
                  <a:pt x="5584" y="11755"/>
                  <a:pt x="5581" y="11906"/>
                </a:cubicBezTo>
                <a:cubicBezTo>
                  <a:pt x="5578" y="12063"/>
                  <a:pt x="5689" y="12108"/>
                  <a:pt x="5804" y="12030"/>
                </a:cubicBezTo>
                <a:cubicBezTo>
                  <a:pt x="5912" y="11957"/>
                  <a:pt x="5885" y="11809"/>
                  <a:pt x="5854" y="11708"/>
                </a:cubicBezTo>
                <a:cubicBezTo>
                  <a:pt x="5876" y="11815"/>
                  <a:pt x="5903" y="12015"/>
                  <a:pt x="5978" y="12105"/>
                </a:cubicBezTo>
                <a:cubicBezTo>
                  <a:pt x="6003" y="12105"/>
                  <a:pt x="6011" y="12105"/>
                  <a:pt x="6003" y="12080"/>
                </a:cubicBezTo>
              </a:path>
              <a:path w="2358" h="1018">
                <a:moveTo>
                  <a:pt x="6350" y="11683"/>
                </a:moveTo>
                <a:cubicBezTo>
                  <a:pt x="6350" y="11634"/>
                  <a:pt x="6357" y="11522"/>
                  <a:pt x="6251" y="11559"/>
                </a:cubicBezTo>
                <a:cubicBezTo>
                  <a:pt x="6089" y="11616"/>
                  <a:pt x="6166" y="11914"/>
                  <a:pt x="6226" y="12005"/>
                </a:cubicBezTo>
                <a:cubicBezTo>
                  <a:pt x="6309" y="12132"/>
                  <a:pt x="6481" y="12035"/>
                  <a:pt x="6548" y="11956"/>
                </a:cubicBezTo>
                <a:cubicBezTo>
                  <a:pt x="6556" y="11939"/>
                  <a:pt x="6565" y="11923"/>
                  <a:pt x="6573" y="11906"/>
                </a:cubicBezTo>
              </a:path>
              <a:path w="2358" h="1018">
                <a:moveTo>
                  <a:pt x="6598" y="11584"/>
                </a:moveTo>
                <a:cubicBezTo>
                  <a:pt x="6578" y="11706"/>
                  <a:pt x="6586" y="11807"/>
                  <a:pt x="6623" y="11931"/>
                </a:cubicBezTo>
                <a:cubicBezTo>
                  <a:pt x="6648" y="11981"/>
                  <a:pt x="6656" y="11997"/>
                  <a:pt x="6697" y="12005"/>
                </a:cubicBezTo>
                <a:cubicBezTo>
                  <a:pt x="6826" y="11936"/>
                  <a:pt x="6866" y="11843"/>
                  <a:pt x="6846" y="11683"/>
                </a:cubicBezTo>
                <a:cubicBezTo>
                  <a:pt x="6838" y="11658"/>
                  <a:pt x="6829" y="11634"/>
                  <a:pt x="6821" y="11609"/>
                </a:cubicBezTo>
                <a:cubicBezTo>
                  <a:pt x="6821" y="11548"/>
                  <a:pt x="6886" y="11876"/>
                  <a:pt x="6896" y="11906"/>
                </a:cubicBezTo>
                <a:cubicBezTo>
                  <a:pt x="6918" y="11969"/>
                  <a:pt x="6946" y="12079"/>
                  <a:pt x="6970" y="12055"/>
                </a:cubicBezTo>
              </a:path>
              <a:path w="2358" h="1018">
                <a:moveTo>
                  <a:pt x="7069" y="11088"/>
                </a:moveTo>
                <a:cubicBezTo>
                  <a:pt x="7069" y="11265"/>
                  <a:pt x="7148" y="11441"/>
                  <a:pt x="7193" y="11609"/>
                </a:cubicBezTo>
                <a:cubicBezTo>
                  <a:pt x="7236" y="11770"/>
                  <a:pt x="7241" y="11921"/>
                  <a:pt x="7268" y="12080"/>
                </a:cubicBezTo>
              </a:path>
              <a:path w="2358" h="1018">
                <a:moveTo>
                  <a:pt x="6970" y="11733"/>
                </a:moveTo>
                <a:cubicBezTo>
                  <a:pt x="7085" y="11694"/>
                  <a:pt x="7273" y="11617"/>
                  <a:pt x="7392" y="11633"/>
                </a:cubicBezTo>
                <a:cubicBezTo>
                  <a:pt x="7400" y="11641"/>
                  <a:pt x="7409" y="11650"/>
                  <a:pt x="7417" y="11658"/>
                </a:cubicBezTo>
              </a:path>
              <a:path w="2358" h="1018">
                <a:moveTo>
                  <a:pt x="7565" y="11683"/>
                </a:moveTo>
                <a:cubicBezTo>
                  <a:pt x="7628" y="11683"/>
                  <a:pt x="7678" y="11664"/>
                  <a:pt x="7739" y="11658"/>
                </a:cubicBezTo>
                <a:cubicBezTo>
                  <a:pt x="7747" y="11658"/>
                  <a:pt x="7756" y="11658"/>
                  <a:pt x="7764" y="11658"/>
                </a:cubicBezTo>
                <a:cubicBezTo>
                  <a:pt x="7732" y="11588"/>
                  <a:pt x="7711" y="11498"/>
                  <a:pt x="7615" y="11509"/>
                </a:cubicBezTo>
                <a:cubicBezTo>
                  <a:pt x="7500" y="11522"/>
                  <a:pt x="7531" y="11807"/>
                  <a:pt x="7541" y="11881"/>
                </a:cubicBezTo>
                <a:cubicBezTo>
                  <a:pt x="7554" y="11977"/>
                  <a:pt x="7659" y="12073"/>
                  <a:pt x="7764" y="12030"/>
                </a:cubicBezTo>
                <a:cubicBezTo>
                  <a:pt x="7834" y="12001"/>
                  <a:pt x="7874" y="11931"/>
                  <a:pt x="7938" y="119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880" y="5705640"/>
            <a:ext cx="812880" cy="72720"/>
          </a:xfrm>
          <a:custGeom>
            <a:avLst/>
            <a:gdLst/>
            <a:ahLst/>
            <a:rect l="l" t="t" r="r" b="b"/>
            <a:pathLst>
              <a:path w="2259" h="200">
                <a:moveTo>
                  <a:pt x="2108" y="15900"/>
                </a:moveTo>
                <a:cubicBezTo>
                  <a:pt x="2170" y="15906"/>
                  <a:pt x="2188" y="15922"/>
                  <a:pt x="2257" y="15925"/>
                </a:cubicBezTo>
                <a:cubicBezTo>
                  <a:pt x="2377" y="15931"/>
                  <a:pt x="2484" y="15925"/>
                  <a:pt x="2604" y="15949"/>
                </a:cubicBezTo>
                <a:cubicBezTo>
                  <a:pt x="2749" y="15978"/>
                  <a:pt x="2849" y="16045"/>
                  <a:pt x="3001" y="16049"/>
                </a:cubicBezTo>
                <a:cubicBezTo>
                  <a:pt x="3183" y="16053"/>
                  <a:pt x="3369" y="16061"/>
                  <a:pt x="3547" y="16024"/>
                </a:cubicBezTo>
                <a:cubicBezTo>
                  <a:pt x="3672" y="15998"/>
                  <a:pt x="3795" y="15971"/>
                  <a:pt x="3919" y="15949"/>
                </a:cubicBezTo>
                <a:cubicBezTo>
                  <a:pt x="4020" y="15931"/>
                  <a:pt x="4120" y="15891"/>
                  <a:pt x="4217" y="15875"/>
                </a:cubicBezTo>
                <a:cubicBezTo>
                  <a:pt x="4271" y="15866"/>
                  <a:pt x="4313" y="15863"/>
                  <a:pt x="4366" y="15850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60800" y="4633920"/>
            <a:ext cx="50940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8781" y="13146"/>
                </a:moveTo>
                <a:cubicBezTo>
                  <a:pt x="8817" y="13380"/>
                  <a:pt x="8830" y="13605"/>
                  <a:pt x="8830" y="13841"/>
                </a:cubicBezTo>
              </a:path>
              <a:path w="1415" h="968">
                <a:moveTo>
                  <a:pt x="9401" y="13122"/>
                </a:moveTo>
                <a:cubicBezTo>
                  <a:pt x="9339" y="13141"/>
                  <a:pt x="9032" y="13226"/>
                  <a:pt x="9128" y="13370"/>
                </a:cubicBezTo>
                <a:cubicBezTo>
                  <a:pt x="9206" y="13487"/>
                  <a:pt x="9325" y="13536"/>
                  <a:pt x="9401" y="13667"/>
                </a:cubicBezTo>
                <a:cubicBezTo>
                  <a:pt x="9351" y="13791"/>
                  <a:pt x="9334" y="13832"/>
                  <a:pt x="9227" y="13841"/>
                </a:cubicBezTo>
                <a:cubicBezTo>
                  <a:pt x="9084" y="13681"/>
                  <a:pt x="9219" y="13491"/>
                  <a:pt x="9302" y="13295"/>
                </a:cubicBezTo>
                <a:cubicBezTo>
                  <a:pt x="9338" y="13222"/>
                  <a:pt x="9355" y="13217"/>
                  <a:pt x="9351" y="13171"/>
                </a:cubicBezTo>
              </a:path>
              <a:path w="1415" h="968">
                <a:moveTo>
                  <a:pt x="9723" y="13171"/>
                </a:moveTo>
                <a:cubicBezTo>
                  <a:pt x="9583" y="13242"/>
                  <a:pt x="9536" y="13463"/>
                  <a:pt x="9550" y="13618"/>
                </a:cubicBezTo>
                <a:cubicBezTo>
                  <a:pt x="9592" y="13725"/>
                  <a:pt x="9592" y="13761"/>
                  <a:pt x="9674" y="13767"/>
                </a:cubicBezTo>
                <a:cubicBezTo>
                  <a:pt x="9845" y="13558"/>
                  <a:pt x="9842" y="13411"/>
                  <a:pt x="9748" y="13146"/>
                </a:cubicBezTo>
                <a:cubicBezTo>
                  <a:pt x="9724" y="13079"/>
                  <a:pt x="9707" y="13097"/>
                  <a:pt x="9649" y="13097"/>
                </a:cubicBezTo>
              </a:path>
              <a:path w="1415" h="968">
                <a:moveTo>
                  <a:pt x="10071" y="12874"/>
                </a:moveTo>
                <a:cubicBezTo>
                  <a:pt x="10003" y="12908"/>
                  <a:pt x="9987" y="12941"/>
                  <a:pt x="9947" y="13022"/>
                </a:cubicBezTo>
                <a:cubicBezTo>
                  <a:pt x="9988" y="13035"/>
                  <a:pt x="10235" y="13075"/>
                  <a:pt x="10195" y="12948"/>
                </a:cubicBezTo>
                <a:cubicBezTo>
                  <a:pt x="10189" y="12930"/>
                  <a:pt x="10087" y="12880"/>
                  <a:pt x="10071" y="12874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19160" y="4705200"/>
            <a:ext cx="930240" cy="482760"/>
          </a:xfrm>
          <a:custGeom>
            <a:avLst/>
            <a:gdLst/>
            <a:ahLst/>
            <a:rect l="l" t="t" r="r" b="b"/>
            <a:pathLst>
              <a:path w="2581" h="1341">
                <a:moveTo>
                  <a:pt x="5507" y="13271"/>
                </a:moveTo>
                <a:cubicBezTo>
                  <a:pt x="5613" y="13359"/>
                  <a:pt x="5551" y="13259"/>
                  <a:pt x="5531" y="13246"/>
                </a:cubicBezTo>
                <a:cubicBezTo>
                  <a:pt x="5438" y="13208"/>
                  <a:pt x="5386" y="13354"/>
                  <a:pt x="5358" y="13444"/>
                </a:cubicBezTo>
                <a:cubicBezTo>
                  <a:pt x="5358" y="13486"/>
                  <a:pt x="5358" y="13494"/>
                  <a:pt x="5358" y="13519"/>
                </a:cubicBezTo>
                <a:cubicBezTo>
                  <a:pt x="5480" y="13509"/>
                  <a:pt x="5616" y="13447"/>
                  <a:pt x="5655" y="13618"/>
                </a:cubicBezTo>
                <a:cubicBezTo>
                  <a:pt x="5711" y="13861"/>
                  <a:pt x="5537" y="13883"/>
                  <a:pt x="5358" y="13891"/>
                </a:cubicBezTo>
                <a:cubicBezTo>
                  <a:pt x="5260" y="13895"/>
                  <a:pt x="5426" y="13748"/>
                  <a:pt x="5482" y="13667"/>
                </a:cubicBezTo>
              </a:path>
              <a:path w="2581" h="1341">
                <a:moveTo>
                  <a:pt x="5829" y="13072"/>
                </a:moveTo>
                <a:cubicBezTo>
                  <a:pt x="5847" y="13268"/>
                  <a:pt x="5871" y="13472"/>
                  <a:pt x="5904" y="13667"/>
                </a:cubicBezTo>
                <a:cubicBezTo>
                  <a:pt x="5916" y="13737"/>
                  <a:pt x="5928" y="13757"/>
                  <a:pt x="5928" y="13816"/>
                </a:cubicBezTo>
              </a:path>
              <a:path w="2581" h="1341">
                <a:moveTo>
                  <a:pt x="5680" y="13568"/>
                </a:moveTo>
                <a:cubicBezTo>
                  <a:pt x="5801" y="13521"/>
                  <a:pt x="5921" y="13480"/>
                  <a:pt x="6052" y="13469"/>
                </a:cubicBezTo>
                <a:cubicBezTo>
                  <a:pt x="6077" y="13469"/>
                  <a:pt x="6085" y="13469"/>
                  <a:pt x="6102" y="13469"/>
                </a:cubicBezTo>
                <a:cubicBezTo>
                  <a:pt x="6116" y="13596"/>
                  <a:pt x="6137" y="13720"/>
                  <a:pt x="6176" y="13841"/>
                </a:cubicBezTo>
                <a:cubicBezTo>
                  <a:pt x="6151" y="13735"/>
                  <a:pt x="6115" y="13667"/>
                  <a:pt x="6152" y="13543"/>
                </a:cubicBezTo>
                <a:cubicBezTo>
                  <a:pt x="6209" y="13353"/>
                  <a:pt x="6355" y="13371"/>
                  <a:pt x="6474" y="13444"/>
                </a:cubicBezTo>
              </a:path>
              <a:path w="2581" h="1341">
                <a:moveTo>
                  <a:pt x="6648" y="13543"/>
                </a:moveTo>
                <a:cubicBezTo>
                  <a:pt x="6648" y="13501"/>
                  <a:pt x="6642" y="13475"/>
                  <a:pt x="6623" y="13444"/>
                </a:cubicBezTo>
                <a:cubicBezTo>
                  <a:pt x="6496" y="13487"/>
                  <a:pt x="6396" y="13630"/>
                  <a:pt x="6375" y="13767"/>
                </a:cubicBezTo>
                <a:cubicBezTo>
                  <a:pt x="6383" y="13800"/>
                  <a:pt x="6392" y="13833"/>
                  <a:pt x="6400" y="13866"/>
                </a:cubicBezTo>
                <a:cubicBezTo>
                  <a:pt x="6516" y="13839"/>
                  <a:pt x="6606" y="13811"/>
                  <a:pt x="6623" y="13667"/>
                </a:cubicBezTo>
                <a:cubicBezTo>
                  <a:pt x="6623" y="13651"/>
                  <a:pt x="6623" y="13634"/>
                  <a:pt x="6623" y="13618"/>
                </a:cubicBezTo>
                <a:cubicBezTo>
                  <a:pt x="6682" y="13722"/>
                  <a:pt x="6724" y="13841"/>
                  <a:pt x="6772" y="13940"/>
                </a:cubicBezTo>
                <a:cubicBezTo>
                  <a:pt x="6780" y="13948"/>
                  <a:pt x="6788" y="13957"/>
                  <a:pt x="6796" y="13965"/>
                </a:cubicBezTo>
              </a:path>
              <a:path w="2581" h="1341">
                <a:moveTo>
                  <a:pt x="6846" y="13543"/>
                </a:moveTo>
                <a:cubicBezTo>
                  <a:pt x="6846" y="13651"/>
                  <a:pt x="6885" y="13756"/>
                  <a:pt x="6896" y="13866"/>
                </a:cubicBezTo>
              </a:path>
              <a:path w="2581" h="1341">
                <a:moveTo>
                  <a:pt x="7243" y="13494"/>
                </a:moveTo>
                <a:cubicBezTo>
                  <a:pt x="7121" y="13474"/>
                  <a:pt x="7029" y="13684"/>
                  <a:pt x="7045" y="13816"/>
                </a:cubicBezTo>
                <a:cubicBezTo>
                  <a:pt x="7061" y="13833"/>
                  <a:pt x="7078" y="13849"/>
                  <a:pt x="7094" y="13866"/>
                </a:cubicBezTo>
                <a:cubicBezTo>
                  <a:pt x="7170" y="13755"/>
                  <a:pt x="7275" y="13572"/>
                  <a:pt x="7193" y="13519"/>
                </a:cubicBezTo>
                <a:cubicBezTo>
                  <a:pt x="7253" y="13794"/>
                  <a:pt x="7287" y="14056"/>
                  <a:pt x="7293" y="14337"/>
                </a:cubicBezTo>
                <a:cubicBezTo>
                  <a:pt x="7297" y="14508"/>
                  <a:pt x="7277" y="14328"/>
                  <a:pt x="7268" y="14288"/>
                </a:cubicBezTo>
              </a:path>
              <a:path w="2581" h="1341">
                <a:moveTo>
                  <a:pt x="7317" y="13246"/>
                </a:moveTo>
                <a:cubicBezTo>
                  <a:pt x="7339" y="13423"/>
                  <a:pt x="7370" y="13594"/>
                  <a:pt x="7417" y="13767"/>
                </a:cubicBezTo>
                <a:cubicBezTo>
                  <a:pt x="7466" y="13950"/>
                  <a:pt x="7400" y="13636"/>
                  <a:pt x="7417" y="13568"/>
                </a:cubicBezTo>
                <a:cubicBezTo>
                  <a:pt x="7432" y="13510"/>
                  <a:pt x="7523" y="13488"/>
                  <a:pt x="7565" y="13469"/>
                </a:cubicBezTo>
                <a:cubicBezTo>
                  <a:pt x="7687" y="13591"/>
                  <a:pt x="7654" y="13704"/>
                  <a:pt x="7689" y="13866"/>
                </a:cubicBezTo>
                <a:cubicBezTo>
                  <a:pt x="7728" y="13942"/>
                  <a:pt x="7751" y="13932"/>
                  <a:pt x="7789" y="13791"/>
                </a:cubicBezTo>
              </a:path>
              <a:path w="2581" h="1341">
                <a:moveTo>
                  <a:pt x="7813" y="13122"/>
                </a:moveTo>
                <a:cubicBezTo>
                  <a:pt x="7813" y="13269"/>
                  <a:pt x="7878" y="13416"/>
                  <a:pt x="7888" y="13568"/>
                </a:cubicBezTo>
                <a:cubicBezTo>
                  <a:pt x="7888" y="13569"/>
                  <a:pt x="7886" y="14113"/>
                  <a:pt x="7913" y="13791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35080" y="5232240"/>
            <a:ext cx="1162080" cy="420840"/>
          </a:xfrm>
          <a:custGeom>
            <a:avLst/>
            <a:gdLst/>
            <a:ahLst/>
            <a:rect l="l" t="t" r="r" b="b"/>
            <a:pathLst>
              <a:path w="3226" h="1166">
                <a:moveTo>
                  <a:pt x="5953" y="15180"/>
                </a:moveTo>
                <a:cubicBezTo>
                  <a:pt x="5937" y="15133"/>
                  <a:pt x="5904" y="15097"/>
                  <a:pt x="5829" y="15106"/>
                </a:cubicBezTo>
                <a:cubicBezTo>
                  <a:pt x="5681" y="15124"/>
                  <a:pt x="5620" y="15457"/>
                  <a:pt x="5655" y="15577"/>
                </a:cubicBezTo>
                <a:cubicBezTo>
                  <a:pt x="5720" y="15802"/>
                  <a:pt x="5975" y="15637"/>
                  <a:pt x="6028" y="15503"/>
                </a:cubicBezTo>
                <a:cubicBezTo>
                  <a:pt x="6082" y="15368"/>
                  <a:pt x="6076" y="15176"/>
                  <a:pt x="5953" y="15081"/>
                </a:cubicBezTo>
                <a:cubicBezTo>
                  <a:pt x="5920" y="15081"/>
                  <a:pt x="5920" y="15081"/>
                  <a:pt x="5978" y="15081"/>
                </a:cubicBezTo>
              </a:path>
              <a:path w="3226" h="1166">
                <a:moveTo>
                  <a:pt x="6201" y="14536"/>
                </a:moveTo>
                <a:cubicBezTo>
                  <a:pt x="6237" y="14820"/>
                  <a:pt x="6320" y="15097"/>
                  <a:pt x="6375" y="15379"/>
                </a:cubicBezTo>
                <a:cubicBezTo>
                  <a:pt x="6391" y="15462"/>
                  <a:pt x="6406" y="15546"/>
                  <a:pt x="6424" y="15627"/>
                </a:cubicBezTo>
                <a:cubicBezTo>
                  <a:pt x="6405" y="15567"/>
                  <a:pt x="6348" y="15467"/>
                  <a:pt x="6350" y="15404"/>
                </a:cubicBezTo>
                <a:cubicBezTo>
                  <a:pt x="6355" y="15236"/>
                  <a:pt x="6465" y="15168"/>
                  <a:pt x="6598" y="15106"/>
                </a:cubicBezTo>
                <a:cubicBezTo>
                  <a:pt x="6720" y="15198"/>
                  <a:pt x="6836" y="15371"/>
                  <a:pt x="6796" y="15553"/>
                </a:cubicBezTo>
                <a:cubicBezTo>
                  <a:pt x="6766" y="15689"/>
                  <a:pt x="6554" y="15705"/>
                  <a:pt x="6449" y="15677"/>
                </a:cubicBezTo>
                <a:cubicBezTo>
                  <a:pt x="6411" y="15639"/>
                  <a:pt x="6413" y="15616"/>
                  <a:pt x="6474" y="15577"/>
                </a:cubicBezTo>
              </a:path>
              <a:path w="3226" h="1166">
                <a:moveTo>
                  <a:pt x="6871" y="14610"/>
                </a:moveTo>
                <a:cubicBezTo>
                  <a:pt x="6927" y="14834"/>
                  <a:pt x="6967" y="15046"/>
                  <a:pt x="6995" y="15280"/>
                </a:cubicBezTo>
                <a:cubicBezTo>
                  <a:pt x="7010" y="15405"/>
                  <a:pt x="7034" y="15528"/>
                  <a:pt x="7045" y="15652"/>
                </a:cubicBezTo>
              </a:path>
              <a:path w="3226" h="1166">
                <a:moveTo>
                  <a:pt x="6747" y="15230"/>
                </a:moveTo>
                <a:cubicBezTo>
                  <a:pt x="6919" y="15193"/>
                  <a:pt x="7095" y="15147"/>
                  <a:pt x="7268" y="15131"/>
                </a:cubicBezTo>
                <a:cubicBezTo>
                  <a:pt x="7276" y="15131"/>
                  <a:pt x="7285" y="15131"/>
                  <a:pt x="7293" y="15131"/>
                </a:cubicBezTo>
              </a:path>
              <a:path w="3226" h="1166">
                <a:moveTo>
                  <a:pt x="7342" y="15106"/>
                </a:moveTo>
                <a:cubicBezTo>
                  <a:pt x="7342" y="15276"/>
                  <a:pt x="7327" y="15418"/>
                  <a:pt x="7392" y="15577"/>
                </a:cubicBezTo>
                <a:cubicBezTo>
                  <a:pt x="7426" y="15611"/>
                  <a:pt x="7447" y="15619"/>
                  <a:pt x="7491" y="15602"/>
                </a:cubicBezTo>
                <a:cubicBezTo>
                  <a:pt x="7590" y="15424"/>
                  <a:pt x="7590" y="15267"/>
                  <a:pt x="7590" y="15056"/>
                </a:cubicBezTo>
                <a:cubicBezTo>
                  <a:pt x="7590" y="15048"/>
                  <a:pt x="7590" y="15040"/>
                  <a:pt x="7590" y="15032"/>
                </a:cubicBezTo>
                <a:cubicBezTo>
                  <a:pt x="7590" y="15170"/>
                  <a:pt x="7640" y="15294"/>
                  <a:pt x="7665" y="15429"/>
                </a:cubicBezTo>
                <a:cubicBezTo>
                  <a:pt x="7684" y="15531"/>
                  <a:pt x="7689" y="15604"/>
                  <a:pt x="7689" y="15701"/>
                </a:cubicBezTo>
              </a:path>
              <a:path w="3226" h="1166">
                <a:moveTo>
                  <a:pt x="8136" y="15056"/>
                </a:moveTo>
                <a:cubicBezTo>
                  <a:pt x="7976" y="15079"/>
                  <a:pt x="7955" y="15114"/>
                  <a:pt x="7863" y="15230"/>
                </a:cubicBezTo>
                <a:cubicBezTo>
                  <a:pt x="7855" y="15238"/>
                  <a:pt x="7846" y="15247"/>
                  <a:pt x="7838" y="15255"/>
                </a:cubicBezTo>
                <a:cubicBezTo>
                  <a:pt x="7929" y="15255"/>
                  <a:pt x="8198" y="15226"/>
                  <a:pt x="8235" y="15354"/>
                </a:cubicBezTo>
                <a:cubicBezTo>
                  <a:pt x="8299" y="15575"/>
                  <a:pt x="8092" y="15644"/>
                  <a:pt x="7938" y="15602"/>
                </a:cubicBezTo>
                <a:cubicBezTo>
                  <a:pt x="7872" y="15584"/>
                  <a:pt x="7864" y="15587"/>
                  <a:pt x="7888" y="15553"/>
                </a:cubicBezTo>
              </a:path>
              <a:path w="3226" h="1166">
                <a:moveTo>
                  <a:pt x="8359" y="15255"/>
                </a:moveTo>
                <a:cubicBezTo>
                  <a:pt x="8414" y="15288"/>
                  <a:pt x="8463" y="15280"/>
                  <a:pt x="8533" y="15280"/>
                </a:cubicBezTo>
                <a:cubicBezTo>
                  <a:pt x="8577" y="15280"/>
                  <a:pt x="8590" y="15277"/>
                  <a:pt x="8607" y="15304"/>
                </a:cubicBezTo>
                <a:cubicBezTo>
                  <a:pt x="8607" y="15206"/>
                  <a:pt x="8596" y="15127"/>
                  <a:pt x="8582" y="15032"/>
                </a:cubicBezTo>
                <a:cubicBezTo>
                  <a:pt x="8437" y="15008"/>
                  <a:pt x="8362" y="15062"/>
                  <a:pt x="8334" y="15230"/>
                </a:cubicBezTo>
                <a:cubicBezTo>
                  <a:pt x="8305" y="15405"/>
                  <a:pt x="8401" y="15667"/>
                  <a:pt x="8607" y="15677"/>
                </a:cubicBezTo>
                <a:cubicBezTo>
                  <a:pt x="8719" y="15682"/>
                  <a:pt x="8789" y="15600"/>
                  <a:pt x="8880" y="1557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omewor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ntifying Angles Practice 2 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06880" y="2401920"/>
            <a:ext cx="1689120" cy="90360"/>
          </a:xfrm>
          <a:custGeom>
            <a:avLst/>
            <a:gdLst/>
            <a:ahLst/>
            <a:rect l="l" t="t" r="r" b="b"/>
            <a:pathLst>
              <a:path w="4689" h="250">
                <a:moveTo>
                  <a:pt x="11435" y="6921"/>
                </a:moveTo>
                <a:cubicBezTo>
                  <a:pt x="11419" y="6889"/>
                  <a:pt x="11426" y="6903"/>
                  <a:pt x="11410" y="6871"/>
                </a:cubicBezTo>
                <a:cubicBezTo>
                  <a:pt x="11531" y="6871"/>
                  <a:pt x="11641" y="6859"/>
                  <a:pt x="11757" y="6846"/>
                </a:cubicBezTo>
                <a:cubicBezTo>
                  <a:pt x="11881" y="6833"/>
                  <a:pt x="12006" y="6806"/>
                  <a:pt x="12129" y="6796"/>
                </a:cubicBezTo>
                <a:cubicBezTo>
                  <a:pt x="12254" y="6785"/>
                  <a:pt x="12378" y="6792"/>
                  <a:pt x="12502" y="6772"/>
                </a:cubicBezTo>
                <a:cubicBezTo>
                  <a:pt x="12586" y="6759"/>
                  <a:pt x="12665" y="6758"/>
                  <a:pt x="12750" y="6747"/>
                </a:cubicBezTo>
                <a:cubicBezTo>
                  <a:pt x="12838" y="6735"/>
                  <a:pt x="12934" y="6739"/>
                  <a:pt x="13022" y="6722"/>
                </a:cubicBezTo>
                <a:cubicBezTo>
                  <a:pt x="13104" y="6706"/>
                  <a:pt x="13160" y="6699"/>
                  <a:pt x="13246" y="6697"/>
                </a:cubicBezTo>
                <a:cubicBezTo>
                  <a:pt x="13375" y="6694"/>
                  <a:pt x="13520" y="6729"/>
                  <a:pt x="13643" y="6722"/>
                </a:cubicBezTo>
                <a:cubicBezTo>
                  <a:pt x="13782" y="6715"/>
                  <a:pt x="13921" y="6697"/>
                  <a:pt x="14064" y="6697"/>
                </a:cubicBezTo>
                <a:cubicBezTo>
                  <a:pt x="14219" y="6697"/>
                  <a:pt x="14356" y="6694"/>
                  <a:pt x="14511" y="6697"/>
                </a:cubicBezTo>
                <a:cubicBezTo>
                  <a:pt x="15039" y="6708"/>
                  <a:pt x="15569" y="6697"/>
                  <a:pt x="16098" y="669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demcgra</cp:lastModifiedBy>
  <dcterms:modified xsi:type="dcterms:W3CDTF">2012-01-24T20:16:25Z</dcterms:modified>
  <cp:revision>16</cp:revision>
  <dc:subject/>
  <dc:title>Obj 10.1:  To classify angles by their measure.</dc:title>
</cp:coreProperties>
</file>